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B165-5203-42B8-956F-A53CBF8B6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ladders are made of wood, metal, or reinforced fiberglass. Wood ladders can’t have more than two sections and must not exceed 60 feet. Metal and fiberglass ladders can have as many as three sections; however, the overall length must not exceed 72 feet. Individual sections of any extension ladder must not be longer than 30 feet. Extension ladders are for use by only one person at a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extension ladders have nonslip bases if there’s a chance the ladder can slip. Cord-face ladder shoes are recommended for wet surfaces, rubber or neoprene ladder shoes for smooth dry floor surfaces, and steel spikes for ice or snow. Be careful if you use an extension ladder on oily, metal, or concrete surfaces. Place the ladder securely and tie it off to prevent it from slipp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stepladder, a general purpose ladder, has flat steps and a hinged back. It is self-supporting and nonadjustable. An </a:t>
            </a:r>
            <a:r>
              <a:rPr b="1" i="1" lang="en-US" sz="1200" spc="-1" strike="noStrike">
                <a:solidFill>
                  <a:srgbClr val="000000"/>
                </a:solidFill>
                <a:latin typeface="Arial"/>
              </a:rPr>
              <a:t>industrial </a:t>
            </a:r>
            <a:r>
              <a:rPr b="0" lang="en-US" sz="1200" spc="-1" strike="noStrike">
                <a:solidFill>
                  <a:srgbClr val="000000"/>
                </a:solidFill>
                <a:latin typeface="Arial"/>
              </a:rPr>
              <a:t>model, designed for heavy service demands, has stronger legs, heavy-duty flat steps, and knee braces that increase rigidity and du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stepladders should be used only on surfaces that offer firm, level footing such as floors, platforms, and slabs. They are available in metal, wood, or reinforced fiberglass, and are intended to support only one worker at a time. Remember not to stand on or work from the top step. The ladders must have a metal spreader or locking arms. They can’t be longer than 20 feet, measured along the front edge of the side rai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way stepladder is similar to the industrial standard stepladder; however, each side of this ladder has a set of steps. The extra set of steps offers convenience and versatility: One person can work from either side or two people can work from the ladder at the same time — one on each sid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ladder is a special-purpose ladder that has a large stable platform from which you can work at the highest standing level. The ladder’s length is determined by the length of the front edge of the side rail from the bottom of the ladder to the base of the platform. The length of a platform ladder can’t exceed 20 fe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chard ladder is a special-purpose ladder for pruning and harvest work. It has a flared base and a single back leg that offers support on soft, uneven ground. A doubled base on the rails controls penetration in soft s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ers, locking devices, sharp points, or safety shoes are not required on orchard lad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chard ladders are intended for use by only one person at a time and can’t be longer than 16 feet. Metal and reinforced fiberglass vers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id orchard ladder, the so-called </a:t>
            </a:r>
            <a:r>
              <a:rPr b="1" i="1" lang="en-US" sz="1200" spc="-1" strike="noStrike">
                <a:solidFill>
                  <a:srgbClr val="000000"/>
                </a:solidFill>
                <a:latin typeface="Arial"/>
              </a:rPr>
              <a:t>double base </a:t>
            </a:r>
            <a:r>
              <a:rPr b="0" lang="en-US" sz="1200" spc="-1" strike="noStrike">
                <a:solidFill>
                  <a:srgbClr val="000000"/>
                </a:solidFill>
                <a:latin typeface="Arial"/>
              </a:rPr>
              <a:t>version, incorporates a triangular box brace with stub rails attached to the bottom step. The ladder is available in wood or with a combination wood or fiberglass rail and metal step. Maximum length is 16 feet and it is intended for use by on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not stand on or work from the top step of an orchard ladd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estle ladder is a self-supporting portable ladder that has two sections hinged at the top, forming equal angles with the base. A variation of the trestle ladder, the </a:t>
            </a:r>
            <a:r>
              <a:rPr b="1" i="1" lang="en-US" sz="1200" spc="-1" strike="noStrike">
                <a:solidFill>
                  <a:srgbClr val="000000"/>
                </a:solidFill>
                <a:latin typeface="Arial"/>
              </a:rPr>
              <a:t>extension trestle ladder</a:t>
            </a:r>
            <a:r>
              <a:rPr b="0" lang="en-US" sz="1200" spc="-1" strike="noStrike">
                <a:solidFill>
                  <a:srgbClr val="000000"/>
                </a:solidFill>
                <a:latin typeface="Arial"/>
              </a:rPr>
              <a:t>, includes a vertically adjustable single ladder that can be locked in place. (The single extension section must lap at least three feet into the base section.) Trestle ladders are used in pairs to support planks or staging. The rungs are not intended to be used as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le of spread between open front and back legs must be 51/2 inches per foot of length. The length can’t be more than 20 feet, measured along the front edge of the side rails. Rails must be beveled at the top and have metal hinges to prevent spreading. Metal spreaders or locking devices are required to keep the rails in plac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dders come in different types because workers who use them have different needs. In the previous section, we identified major types of portable ladders and the tasks for which they are appropriate. However, we omitted many special-purpose ladders, which are usually variations of general-purpose ladders that are designed to meet a special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 platform, trolley, side-rolling, shaft, and manhole ladders. The important point: You are likely to save time and energy and reduce your risk of injury if you choose the right ladder for your task or job.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dders are indispensable tools. We take them for granted in our day-to-day work and use them extensively in virtually all industries. Though they come in many sizes, shapes, and styles, they all serve the same purpose: to help us move vertically. They’re simply built and easy to use, but they’re not </a:t>
            </a:r>
            <a:r>
              <a:rPr b="0" i="1" lang="en-US" sz="1200" spc="-1" strike="noStrike">
                <a:solidFill>
                  <a:srgbClr val="000000"/>
                </a:solidFill>
                <a:latin typeface="Arial"/>
              </a:rPr>
              <a:t>always </a:t>
            </a:r>
            <a:r>
              <a:rPr b="0" lang="en-US" sz="1200" spc="-1" strike="noStrike">
                <a:solidFill>
                  <a:srgbClr val="000000"/>
                </a:solidFill>
                <a:latin typeface="Arial"/>
              </a:rPr>
              <a:t>user friendly. Each year in Oregon, about 500 workers are seriously injured when they fall from ladders. You don’t have to fall far to get hurt; most workers injured in falls from ladders are less than 10 feet above the ladder’s base of suppor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examples illustrate what can happen when a ladder is used in an inappropriate mann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dders are easier and safer to use when you match them with the appropriate task. Still, most portable-ladder accidents happen when workers do one or more of the following: fail to inspect ladders regularly, place ladders inappropriately, or ignore safe practices when climbing or descending. The guidelines below address each of these issu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beginning of each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appropriate ladder for your task o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 the ladder before you use it. Make sure it’s in sound condition — clean and undamag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ing a lad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ladder near the work you’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the ladder properly. The base should extend not less than one-fourth the ladder’s length. The minimum slope should be 50 degre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olid rest for the rail tops across window ope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the base of a tall, occupied ladder if it could be struck by vehicles or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 leg or pole of an orchard ladder doesn’t rest on a limb or in the crotch of a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ing a ladder in front of an unlocked, unguarded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ing a ladder on boxes, tables, trucks, or other moveable object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per practice: Improper placement angle of ladder; less than 4 to 1 ratio (height of ladder to horizontal distance out at base of ladde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ng a 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il or lash a ladder in place if it will be used repeatedly in the same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ladder that will extend at least 36 inches above the access area it’s 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rking on ladders in exposed areas during a severe storm or strong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rking on ladders covered with ice or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ing a portable ladder if an approved stairway could be used instea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ending and desc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he ladder at all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sp the side rails with both hands; you have a better chance of avoiding a fall if a rung or step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and lower heavy, awkward loads with a hand line or ho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 light, compact tools or materials to the ladder or to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liding down the 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imbing when your hands or shoes are slipp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ing your hands for carry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rying awkward loads when ascending or descending a ladd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ng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strong bail hook on a picker bu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not using a limb hook, secure it firmly to the ladder or to an adjoining li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ing tools or materials on a ladder if they could fall of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people fall from ladders if they’re so easy to use? In general, most ladder falls involve </a:t>
            </a:r>
            <a:r>
              <a:rPr b="0" i="1" lang="en-US" sz="1200" spc="-1" strike="noStrike">
                <a:solidFill>
                  <a:srgbClr val="000000"/>
                </a:solidFill>
                <a:latin typeface="Arial"/>
              </a:rPr>
              <a:t>portable </a:t>
            </a:r>
            <a:r>
              <a:rPr b="0" lang="en-US" sz="1200" spc="-1" strike="noStrike">
                <a:solidFill>
                  <a:srgbClr val="000000"/>
                </a:solidFill>
                <a:latin typeface="Arial"/>
              </a:rPr>
              <a:t>ladders that move, tilt, or shift while a worker is climbing or descending. Unstable or slippery base surfaces are the primary reasons ladders fail. Other reasons include a misstep or a slip of the foot, loss of balance, an overreach, and being struck by a vehicle or other objec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per practice: Improper use of step ladder for acces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l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eps and rungs have a skid-resistant surface that minimizes the risk of sli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d resistant” means corrugated, knurled, dimpled, or coated with skid-resistant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anently mark with the words, </a:t>
            </a:r>
            <a:r>
              <a:rPr b="1" lang="en-US" sz="1200" spc="-1" strike="noStrike">
                <a:solidFill>
                  <a:srgbClr val="000000"/>
                </a:solidFill>
                <a:latin typeface="Arial"/>
              </a:rPr>
              <a:t>“WARNING — Do Not Use Around Energized Electrical Equip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ing any ladder with conductive side rails near exposed, energized equi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secured portable ladder extending 36 inches above landing.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both feet firmly on the ladder rungs and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only one person stands on, or works from, a standard ladder. (Use a scaffold or a second ladder if two or more people are doing the sam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ly inspect any ladder that has collapsed, tipped over, or been exposed to oil or grease. Clean and repair the ladder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defective ladders from service. Tag or mark defective ladders with the words: “Dangerous, Do Not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an extension ladder extends at least 36 inches above an access l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the area around the top and bottom of a ladder free of deb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the load on the ladder (including yourself) below its maximum load capacity.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 ladders. Paint conceals defects. Use transparent preservatives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ladders with broken, patched, oily, or cracked rails, rungs, or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 out over the side rails, lean, or turn excessively on a 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ladder as guy, brace, or sk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 or sit on the top two steps of a step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self-supporting ladder without first opening it up and securing the metal spreader or locking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a ladder beyond its maximum load capacity.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adders are easier to move than others. Here are a few guidelines to help you protect ladders and the people who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nd-carry a ladder, keep the front end elevated, especially around blind corners, in aisles, and through doorways. You’ll reduce the chance of striking another person with the front of the 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ransport a ladder in a truck or trailer, place it parallel to the bed. Avoid tossing, throwing, or dropping it i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ansport a long ladder on a short truck bed over long distances, support the ladder so it won’t sag or b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 slowly over rough terrain. Tie the ladder securely to eliminate nicking, gouging, chafing, and road shock.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oring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prolong a ladder’s life is to store it properly. Some useful storage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age area should be well venti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 ladders shouldn’t be exposed to moisture or excessive heat. Avoid storing ladders near stoves, steam pipes, or radi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 straight or extension ladders in flat racks or on wall brackets. Make sure there are enough brackets to support the ladder so that it doesn’t sag. If the ladder rails have a lateral curve, the wall brackets should match the cu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 stepladders and orchard ladders vertically, in a closed position, to reduce the risk of sagging or twisting. Secure stored ladders so that they won’t tip over if they are str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 ladders, especially wood ladders, promptly after using them. Exposure to moisture and sun will shorten the life of wood and fiberglass ladde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intaining and Repairing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lected ladders quickly become unsafe ladders. Step bolts slacken, step sockets and other joints work loose, hole sizes increase — eventually the ladder becomes twisted and un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maintenance extends a ladder’s life and saves replacement costs. Maintenance includes regular inspection of the ladder, repairing damage and tightening step bolts and other faste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paint a wood ladder — paint conceals de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intaining and Repairing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lower steps on wooden ladders when one-fourth of the step surface is worn away. Typically, the center of a step receives the most wear. (Mineral abrasive or other skid-resistant material reduces w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eats to repair rung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stocking repair parts if you use different types of ladders. Typical parts include ladder bolts, related hardware, and lower steps or rungs (which wear out faster than upper steps or ru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mproving Slip Resis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p-resistant materials are often used on industrial-ladder treads. Notable is the anti-slip treatment on metal platform ladders used in file and parts rooms, tool cribs, and frozen-food lockers. The obvious benefit of slip-resistant material is that it reduces fall risks when a worker is climbing or descending. Common slip-resistant materials you can app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th-backed mineral abrasive: </a:t>
            </a:r>
            <a:r>
              <a:rPr b="0" lang="en-US" sz="1000" spc="-1" strike="noStrike">
                <a:solidFill>
                  <a:srgbClr val="000000"/>
                </a:solidFill>
                <a:latin typeface="Arial"/>
              </a:rPr>
              <a:t>Made in strips, panels, and large sheets. An adhesive-backed, pressure-sensitive type and a plain type requiring cement, are available. Both types can be applied to any clean, dry surface. Use an edge sealing (beading) compound over the application to make it last lon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slip abrasive surfacer: </a:t>
            </a:r>
            <a:r>
              <a:rPr b="0" lang="en-US" sz="1000" spc="-1" strike="noStrike">
                <a:solidFill>
                  <a:srgbClr val="000000"/>
                </a:solidFill>
                <a:latin typeface="Arial"/>
              </a:rPr>
              <a:t>A mastic-type compound containing mineral abrasive that is troweled on in a thin co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rse-ground walnut shells: </a:t>
            </a:r>
            <a:r>
              <a:rPr b="0" lang="en-US" sz="1000" spc="-1" strike="noStrike">
                <a:solidFill>
                  <a:srgbClr val="000000"/>
                </a:solidFill>
                <a:latin typeface="Arial"/>
              </a:rPr>
              <a:t>A wall-texturing material used by decorators, available in most paint stores. Mixed into spar varnish, about one part shells to three or four parts varnish, it makes a good slip-resistant ladder tread surface. When applying the material to metal steps, use a damp-proof primer before applying the var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d: </a:t>
            </a:r>
            <a:r>
              <a:rPr b="0" lang="en-US" sz="1000" spc="-1" strike="noStrike">
                <a:solidFill>
                  <a:srgbClr val="000000"/>
                </a:solidFill>
                <a:latin typeface="Arial"/>
              </a:rPr>
              <a:t>When properly applied, sand can enhance slip resistance. The recommended procedure is to varnish steps or rungs, then sift dry sand onto the wet varnished surface. After allowing ample drying time, shake off surplus sand. (You can apply a thin coat of spar varnish over the sand to strengthen the b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mpling: </a:t>
            </a:r>
            <a:r>
              <a:rPr b="0" lang="en-US" sz="1000" spc="-1" strike="noStrike">
                <a:solidFill>
                  <a:srgbClr val="000000"/>
                </a:solidFill>
                <a:latin typeface="Arial"/>
              </a:rPr>
              <a:t>Metal ladder treads that have round dimples worn smooth can be re-dimpled with a tapered punch driven upward in same line as the original dimpling.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ers can reduce ladder fall risks by doing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inspect and maintain ladd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 tasks to appropriate ladd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ladders correct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b and descend ladders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rs, too, have a responsibility for training workers so they understand these safe work practices and can use them effectively.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eck </a:t>
            </a:r>
            <a:r>
              <a:rPr b="0" lang="en-US" sz="800" spc="-1" strike="noStrike">
                <a:solidFill>
                  <a:srgbClr val="000000"/>
                </a:solidFill>
                <a:latin typeface="Arial"/>
              </a:rPr>
              <a:t>A lengthwise separation of the wood that occurs across the rings of annual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eat</a:t>
            </a:r>
            <a:r>
              <a:rPr b="0" lang="en-US" sz="800" spc="-1" strike="noStrike">
                <a:solidFill>
                  <a:srgbClr val="000000"/>
                </a:solidFill>
                <a:latin typeface="Arial"/>
              </a:rPr>
              <a:t> A rectangular ladder crosspiece placed on edge, upon which a person may step while ascending or desc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etent person</a:t>
            </a:r>
            <a:r>
              <a:rPr b="0" lang="en-US" sz="800" spc="-1" strike="noStrike">
                <a:solidFill>
                  <a:srgbClr val="000000"/>
                </a:solidFill>
                <a:latin typeface="Arial"/>
              </a:rPr>
              <a:t> A person who can identify existing and predictable hazards in the work environment and who has authorization to take prompt measures to eliminate the haza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cay</a:t>
            </a:r>
            <a:r>
              <a:rPr b="0" lang="en-US" sz="800" spc="-1" strike="noStrike">
                <a:solidFill>
                  <a:srgbClr val="000000"/>
                </a:solidFill>
                <a:latin typeface="Arial"/>
              </a:rPr>
              <a:t> Disintegration due to action of wood-destroying fungi. Also known as dote or r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sion ladder</a:t>
            </a:r>
            <a:r>
              <a:rPr b="0" lang="en-US" sz="800" spc="-1" strike="noStrike">
                <a:solidFill>
                  <a:srgbClr val="000000"/>
                </a:solidFill>
                <a:latin typeface="Arial"/>
              </a:rPr>
              <a:t> A non-self-supporting portable ladder that is adjustable in length. It consists of two or more sections in guides or brackets that permit length adjustment. Length is designated by the sum of the lengths of each section, measured along the side rai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sion trestle ladder</a:t>
            </a:r>
            <a:r>
              <a:rPr b="0" lang="en-US" sz="800" spc="-1" strike="noStrike">
                <a:solidFill>
                  <a:srgbClr val="000000"/>
                </a:solidFill>
                <a:latin typeface="Arial"/>
              </a:rPr>
              <a:t> A self-supporting portable ladder that is adjustable in length, consisting of a trestle ladder base and a vertically adjustable single ladder with means for locking the ladders together. Length is designated by the length of the trestle ladder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stening</a:t>
            </a:r>
            <a:r>
              <a:rPr b="0" lang="en-US" sz="800" spc="-1" strike="noStrike">
                <a:solidFill>
                  <a:srgbClr val="000000"/>
                </a:solidFill>
                <a:latin typeface="Arial"/>
              </a:rPr>
              <a:t> A device that attaches a ladder to a structure, building, or equi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dde</a:t>
            </a:r>
            <a:r>
              <a:rPr b="0" lang="en-US" sz="800" spc="-1" strike="noStrike">
                <a:solidFill>
                  <a:srgbClr val="000000"/>
                </a:solidFill>
                <a:latin typeface="Arial"/>
              </a:rPr>
              <a:t>r An appliance usually consisting of two side rails joined at regular intervals by crosspieces called steps, rungs, or cleats on which a person steps when ascending or desc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tform ladder</a:t>
            </a:r>
            <a:r>
              <a:rPr b="0" lang="en-US" sz="800" spc="-1" strike="noStrike">
                <a:solidFill>
                  <a:srgbClr val="000000"/>
                </a:solidFill>
                <a:latin typeface="Arial"/>
              </a:rPr>
              <a:t> A self-supporting ladder of fixed size with a platform at the working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ungs</a:t>
            </a:r>
            <a:r>
              <a:rPr b="0" lang="en-US" sz="800" spc="-1" strike="noStrike">
                <a:solidFill>
                  <a:srgbClr val="000000"/>
                </a:solidFill>
                <a:latin typeface="Arial"/>
              </a:rPr>
              <a:t> Ladder crosspieces of circular or oval cross-section on which a person steps when ascending or desc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al ladder</a:t>
            </a:r>
            <a:r>
              <a:rPr b="0" lang="en-US" sz="800" spc="-1" strike="noStrike">
                <a:solidFill>
                  <a:srgbClr val="000000"/>
                </a:solidFill>
                <a:latin typeface="Arial"/>
              </a:rPr>
              <a:t> A non-self-supporting portable ladder, nonadjustable in length, consisting of two or more sections that function as a single ladder. Its length is designated by the overall length of the assembled s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ngle (or straight) ladder</a:t>
            </a:r>
            <a:r>
              <a:rPr b="0" lang="en-US" sz="800" spc="-1" strike="noStrike">
                <a:solidFill>
                  <a:srgbClr val="000000"/>
                </a:solidFill>
                <a:latin typeface="Arial"/>
              </a:rPr>
              <a:t> A single section non-self-supporting portable ladder, nonadjustable in length. Its length is measured along a side rail. </a:t>
            </a:r>
            <a:r>
              <a:rPr b="1" lang="en-US" sz="800" spc="-1" strike="noStrike">
                <a:solidFill>
                  <a:srgbClr val="000000"/>
                </a:solidFill>
                <a:latin typeface="Arial"/>
              </a:rPr>
              <a:t>Special-purpose ladder</a:t>
            </a:r>
            <a:r>
              <a:rPr b="0" lang="en-US" sz="800" spc="-1" strike="noStrike">
                <a:solidFill>
                  <a:srgbClr val="000000"/>
                </a:solidFill>
                <a:latin typeface="Arial"/>
              </a:rPr>
              <a:t> A general-purpose portable ladder with modified features for specific 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pladder</a:t>
            </a:r>
            <a:r>
              <a:rPr b="0" lang="en-US" sz="800" spc="-1" strike="noStrike">
                <a:solidFill>
                  <a:srgbClr val="000000"/>
                </a:solidFill>
                <a:latin typeface="Arial"/>
              </a:rPr>
              <a:t> A self-supporting portable ladder, nonadjustable in length that has flat steps and a hinged back. Length is measured along the front edge of a side r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ps</a:t>
            </a:r>
            <a:r>
              <a:rPr b="0" lang="en-US" sz="800" spc="-1" strike="noStrike">
                <a:solidFill>
                  <a:srgbClr val="000000"/>
                </a:solidFill>
                <a:latin typeface="Arial"/>
              </a:rPr>
              <a:t> The flat crosspieces of a ladder on which a person steps when ascending or desc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d</a:t>
            </a:r>
            <a:r>
              <a:rPr b="0" lang="en-US" sz="800" spc="-1" strike="noStrike">
                <a:solidFill>
                  <a:srgbClr val="000000"/>
                </a:solidFill>
                <a:latin typeface="Arial"/>
              </a:rPr>
              <a:t> The horizontal member of a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d width</a:t>
            </a:r>
            <a:r>
              <a:rPr b="0" lang="en-US" sz="800" spc="-1" strike="noStrike">
                <a:solidFill>
                  <a:srgbClr val="000000"/>
                </a:solidFill>
                <a:latin typeface="Arial"/>
              </a:rPr>
              <a:t> The horizontal distance from front to back of the tread, including no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stle ladder</a:t>
            </a:r>
            <a:r>
              <a:rPr b="0" lang="en-US" sz="800" spc="-1" strike="noStrike">
                <a:solidFill>
                  <a:srgbClr val="000000"/>
                </a:solidFill>
                <a:latin typeface="Arial"/>
              </a:rPr>
              <a:t> A self-supporting portable ladder, nonadjustable in length, that consists of two sections hinged at the top to form equal angles with the base. Length is measured along the front edge of a side rail.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uide promotes safe work practices for portable ladders. You are encouraged to use it as a basic reference, but it does not replace OR-OSHA requirements for portable ladders, as shown in the tabl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ty requirements for portable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2, subdivision D – walking/working surfaces, subparagraph 437-002-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3, subdivision X - Stairways and Ladders , subparagraph 1926.1053 &amp; 437-003-00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2, subdivision D - Ladders and Scaffolds , subparagraph 437-004-0340 - 437-004-037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types of portable ladders, but they all receive one of four ratings, based on their maximum working load (the maximum weight they can safely support). Before you use a ladder, check its rating. And be sure not to subject it to a load greater than its rated capacity.  The rating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ers climb up or down to do all sorts of tasks, so it’s not surprising that ladders come in different types to help them accomplish those tasks. Portable ladders are either non-self-supporting (such as the straight ladder) or self-supporting (such as the standard step ladder). Within one of these two categories, you’re likely to find the right size, shape, and type of ladder to accomplish your task.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portable or straight ladder is indispensable for general use. It’s the most common type of portable ladder and has the widest range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ed on slippery surfaces, this ladder must have slip-resistant feet or be secured to prevent it from sliding. Rubber or neoprene ladder shoes are recommended for smooth, dry surfaces, and spikes are recommended for snow or 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rtable ladders must not be longer than 30 feet and are intended for use by only one worker at a time. Such ladders are available in wood, metal, and reinforced fibergla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ladders offer the greatest length in a general purpose ladder. The ladder consists of two or more sections that travel in guides or brackets, allowing adjustable lengths. The sections must be assembled so that the sliding upper section is on top of the lower section. Each section must overlap its adjacent section a minimum distance, based on the ladder’s overall length. The overall length is determined by the lengths of the individual sections, measured along the side rails. The table below shows the minimum overlap for ladders up to 60 feet lo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0" name=""/>
          <p:cNvSpPr/>
          <p:nvPr/>
        </p:nvSpPr>
        <p:spPr>
          <a:xfrm>
            <a:off x="0" y="0"/>
            <a:ext cx="9144000" cy="2001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281640"/>
            <a:ext cx="914400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8586720" y="6297480"/>
            <a:ext cx="557280" cy="560520"/>
            <a:chOff x="8586720" y="6297480"/>
            <a:chExt cx="557280" cy="560520"/>
          </a:xfrm>
        </p:grpSpPr>
        <p:sp>
          <p:nvSpPr>
            <p:cNvPr id="3" name=""/>
            <p:cNvSpPr/>
            <p:nvPr/>
          </p:nvSpPr>
          <p:spPr>
            <a:xfrm>
              <a:off x="8948520" y="6297480"/>
              <a:ext cx="195480" cy="1857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943840" y="6481800"/>
              <a:ext cx="200160" cy="185760"/>
            </a:xfrm>
            <a:prstGeom prst="rect">
              <a:avLst/>
            </a:prstGeom>
            <a:solidFill>
              <a:srgbClr val="ff9a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953200" y="6667560"/>
              <a:ext cx="190800" cy="1904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586720" y="6667560"/>
              <a:ext cx="190440" cy="1904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762760" y="6481800"/>
              <a:ext cx="190440" cy="1904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 name=""/>
          <p:cNvGrpSpPr/>
          <p:nvPr/>
        </p:nvGrpSpPr>
        <p:grpSpPr>
          <a:xfrm>
            <a:off x="352440" y="6356520"/>
            <a:ext cx="1496880" cy="425160"/>
            <a:chOff x="352440" y="6356520"/>
            <a:chExt cx="1496880" cy="425160"/>
          </a:xfrm>
        </p:grpSpPr>
        <p:pic>
          <p:nvPicPr>
            <p:cNvPr id="9" name="" descr=""/>
            <p:cNvPicPr/>
            <p:nvPr/>
          </p:nvPicPr>
          <p:blipFill>
            <a:blip r:embed="rId2"/>
            <a:stretch/>
          </p:blipFill>
          <p:spPr>
            <a:xfrm>
              <a:off x="352440" y="6435720"/>
              <a:ext cx="879480" cy="250920"/>
            </a:xfrm>
            <a:prstGeom prst="rect">
              <a:avLst/>
            </a:prstGeom>
            <a:ln w="0">
              <a:noFill/>
            </a:ln>
          </p:spPr>
        </p:pic>
        <p:pic>
          <p:nvPicPr>
            <p:cNvPr id="10" name="" descr=""/>
            <p:cNvPicPr/>
            <p:nvPr/>
          </p:nvPicPr>
          <p:blipFill>
            <a:blip r:embed="rId3"/>
            <a:stretch/>
          </p:blipFill>
          <p:spPr>
            <a:xfrm>
              <a:off x="1297080" y="6356520"/>
              <a:ext cx="552240" cy="425160"/>
            </a:xfrm>
            <a:prstGeom prst="rect">
              <a:avLst/>
            </a:prstGeom>
            <a:ln w="0">
              <a:noFill/>
            </a:ln>
          </p:spPr>
        </p:pic>
      </p:grpSp>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520"/>
            <a:ext cx="4038480" cy="5745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dder Safety</a:t>
            </a:r>
            <a:endParaRPr b="0" lang="en-US" sz="4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 Health &amp; Safety</a:t>
            </a:r>
            <a:endParaRPr b="0" lang="en-US" sz="2800" spc="-1" strike="noStrike">
              <a:solidFill>
                <a:srgbClr val="000000"/>
              </a:solidFill>
              <a:latin typeface="Arial"/>
            </a:endParaRPr>
          </a:p>
        </p:txBody>
      </p:sp>
      <p:pic>
        <p:nvPicPr>
          <p:cNvPr id="57" name="" descr=""/>
          <p:cNvPicPr/>
          <p:nvPr/>
        </p:nvPicPr>
        <p:blipFill>
          <a:blip r:embed="rId1"/>
          <a:stretch/>
        </p:blipFill>
        <p:spPr>
          <a:xfrm>
            <a:off x="5029200" y="228600"/>
            <a:ext cx="3603600" cy="601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self-supporting ladd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Extension or section ladder</a:t>
            </a: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length of ladder 72 feet</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od ladder </a:t>
            </a:r>
            <a:r>
              <a:rPr b="0" lang="en-US" sz="2400" spc="-1" strike="noStrike" u="sng">
                <a:solidFill>
                  <a:srgbClr val="ffffff"/>
                </a:solidFill>
                <a:uFillTx/>
                <a:latin typeface="Arial"/>
              </a:rPr>
              <a:t>&lt;</a:t>
            </a:r>
            <a:r>
              <a:rPr b="0" lang="en-US" sz="2400" spc="-1" strike="noStrike">
                <a:solidFill>
                  <a:srgbClr val="ffffff"/>
                </a:solidFill>
                <a:latin typeface="Arial"/>
              </a:rPr>
              <a:t> 60 feet</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ections </a:t>
            </a:r>
            <a:r>
              <a:rPr b="0" lang="en-US" sz="2400" spc="-1" strike="noStrike" u="sng">
                <a:solidFill>
                  <a:srgbClr val="ffffff"/>
                </a:solidFill>
                <a:uFillTx/>
                <a:latin typeface="Arial"/>
              </a:rPr>
              <a:t>&lt;</a:t>
            </a:r>
            <a:r>
              <a:rPr b="0" lang="en-US" sz="2400" spc="-1" strike="noStrike">
                <a:solidFill>
                  <a:srgbClr val="ffffff"/>
                </a:solidFill>
                <a:latin typeface="Arial"/>
              </a:rPr>
              <a:t> 30 feet</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slip base – tie off top</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1" name=""/>
          <p:cNvGraphicFramePr/>
          <p:nvPr/>
        </p:nvGraphicFramePr>
        <p:xfrm>
          <a:off x="457200" y="3733920"/>
          <a:ext cx="8229600" cy="2401560"/>
        </p:xfrm>
        <a:graphic>
          <a:graphicData uri="http://schemas.openxmlformats.org/drawingml/2006/table">
            <a:tbl>
              <a:tblPr/>
              <a:tblGrid>
                <a:gridCol w="4114800"/>
                <a:gridCol w="41148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dder Length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ap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nd including 36 feet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eet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36 through 48 feet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feet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48 through 60 feet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feet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positive stops on individual ladder sections to ensure required overlap.</a:t>
                      </a:r>
                      <a:r>
                        <a:rPr b="0" lang="en-US" sz="2800" spc="-1" strike="noStrike">
                          <a:solidFill>
                            <a:srgbClr val="ffffff"/>
                          </a:solidFill>
                          <a:latin typeface="Arial"/>
                        </a:rPr>
                        <a:t>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f-supporting ladd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tandard stepladder</a:t>
            </a:r>
            <a:endParaRPr b="0" lang="en-US" sz="28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 steps, hinged bac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n firm level foot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l, wood, fiberglas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worker</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l spreader or locking arm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ork from top step</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feet maximum length</a:t>
            </a:r>
            <a:endParaRPr b="0" lang="en-US" sz="2000" spc="-1" strike="noStrike">
              <a:solidFill>
                <a:srgbClr val="000000"/>
              </a:solidFill>
              <a:latin typeface="Arial"/>
            </a:endParaRPr>
          </a:p>
        </p:txBody>
      </p:sp>
      <p:pic>
        <p:nvPicPr>
          <p:cNvPr id="84" name="" descr=""/>
          <p:cNvPicPr/>
          <p:nvPr/>
        </p:nvPicPr>
        <p:blipFill>
          <a:blip r:embed="rId1"/>
          <a:stretch/>
        </p:blipFill>
        <p:spPr>
          <a:xfrm>
            <a:off x="5450040" y="1066680"/>
            <a:ext cx="369396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f-supporting ladd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Two-way stepladder</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standar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on both side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peopl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t;</a:t>
            </a:r>
            <a:r>
              <a:rPr b="0" lang="en-US" sz="2400" spc="-1" strike="noStrike">
                <a:solidFill>
                  <a:srgbClr val="ffffff"/>
                </a:solidFill>
                <a:latin typeface="Arial"/>
              </a:rPr>
              <a:t> 20 feet</a:t>
            </a:r>
            <a:endParaRPr b="0" lang="en-US" sz="2400" spc="-1" strike="noStrike">
              <a:solidFill>
                <a:srgbClr val="000000"/>
              </a:solidFill>
              <a:latin typeface="Arial"/>
            </a:endParaRPr>
          </a:p>
        </p:txBody>
      </p:sp>
      <p:pic>
        <p:nvPicPr>
          <p:cNvPr id="87" name="" descr=""/>
          <p:cNvPicPr/>
          <p:nvPr/>
        </p:nvPicPr>
        <p:blipFill>
          <a:blip r:embed="rId1"/>
          <a:stretch/>
        </p:blipFill>
        <p:spPr>
          <a:xfrm>
            <a:off x="5313240" y="990720"/>
            <a:ext cx="3830760" cy="51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09680" y="0"/>
            <a:ext cx="48103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f-supporting ladder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Platform ladder</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purpos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t;</a:t>
            </a:r>
            <a:r>
              <a:rPr b="0" lang="en-US" sz="2400" spc="-1" strike="noStrike">
                <a:solidFill>
                  <a:srgbClr val="ffffff"/>
                </a:solidFill>
                <a:latin typeface="Arial"/>
              </a:rPr>
              <a:t> 20 feet to platform</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 platform is highest working height</a:t>
            </a:r>
            <a:endParaRPr b="0" lang="en-US" sz="2400" spc="-1" strike="noStrike">
              <a:solidFill>
                <a:srgbClr val="000000"/>
              </a:solidFill>
              <a:latin typeface="Arial"/>
            </a:endParaRPr>
          </a:p>
        </p:txBody>
      </p:sp>
      <p:pic>
        <p:nvPicPr>
          <p:cNvPr id="91" name="" descr=""/>
          <p:cNvPicPr/>
          <p:nvPr/>
        </p:nvPicPr>
        <p:blipFill>
          <a:blip r:embed="rId1"/>
          <a:stretch/>
        </p:blipFill>
        <p:spPr>
          <a:xfrm>
            <a:off x="5029200" y="1447920"/>
            <a:ext cx="391788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f-supporting ladder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Orchard ladder</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purpose for pruning/harvest us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ers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feet maximum</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od, metal, fiberglas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tand on top step</a:t>
            </a:r>
            <a:endParaRPr b="0" lang="en-US" sz="2400" spc="-1" strike="noStrike">
              <a:solidFill>
                <a:srgbClr val="000000"/>
              </a:solidFill>
              <a:latin typeface="Arial"/>
            </a:endParaRPr>
          </a:p>
        </p:txBody>
      </p:sp>
      <p:pic>
        <p:nvPicPr>
          <p:cNvPr id="94" name="" descr=""/>
          <p:cNvPicPr/>
          <p:nvPr/>
        </p:nvPicPr>
        <p:blipFill>
          <a:blip r:embed="rId1"/>
          <a:stretch/>
        </p:blipFill>
        <p:spPr>
          <a:xfrm>
            <a:off x="5078520" y="1066680"/>
            <a:ext cx="330336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f-supporting ladder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Trestle ladder</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ections, hing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in pairs to support planks or staging</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of spread = 5.5 inches per foot of length</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t;</a:t>
            </a:r>
            <a:r>
              <a:rPr b="0" lang="en-US" sz="2400" spc="-1" strike="noStrike">
                <a:solidFill>
                  <a:srgbClr val="ffffff"/>
                </a:solidFill>
                <a:latin typeface="Arial"/>
              </a:rPr>
              <a:t> 20 fee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ers required</a:t>
            </a:r>
            <a:endParaRPr b="0" lang="en-US" sz="2400" spc="-1" strike="noStrike">
              <a:solidFill>
                <a:srgbClr val="000000"/>
              </a:solidFill>
              <a:latin typeface="Arial"/>
            </a:endParaRPr>
          </a:p>
        </p:txBody>
      </p:sp>
      <p:pic>
        <p:nvPicPr>
          <p:cNvPr id="97" name="" descr=""/>
          <p:cNvPicPr/>
          <p:nvPr/>
        </p:nvPicPr>
        <p:blipFill>
          <a:blip r:embed="rId1"/>
          <a:stretch/>
        </p:blipFill>
        <p:spPr>
          <a:xfrm>
            <a:off x="5715000" y="990720"/>
            <a:ext cx="317664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676520" y="228600"/>
            <a:ext cx="6095880" cy="609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ing Ladder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Other ladders for special need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form</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lle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de-roll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f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hole</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the right ladder for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dder Safety - Introduct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spensable too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sizes, sha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egon: 500 workers injured annuall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injuries: fall of less than 10 fe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ing Ladder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1</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dium-duty, four-legged stepladder is designed for use on firm, level footing. If you use it frequently on soft, uneven ground — typical in orchard work — it will eventually twist and fail to support a load. You risk becoming a victim of the most common ladder accident — a ladder that tips over.</a:t>
            </a:r>
            <a:r>
              <a:rPr b="0" lang="en-US" sz="2400" spc="-1" strike="noStrike">
                <a:solidFill>
                  <a:srgbClr val="000000"/>
                </a:solidFill>
                <a:latin typeface="Arial"/>
              </a:rPr>
              <a:t> </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2</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rchard ladder lacks locking arms or spreaders. When used on a firm, smooth footing, the tripod leg or pole tends to creep forward. The result is another common accident scenario — the ladder is likely to collap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Accidents happe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 to inspec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inappropriatel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nore safe practices when climb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Beginning a job</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ppropriate ladder for task</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 ladder –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 </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amag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Placing a ladder</a:t>
            </a:r>
            <a:endParaRPr b="0" lang="en-US" sz="28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 wor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angle</a:t>
            </a:r>
            <a:endParaRPr b="0" lang="en-US" sz="2000" spc="-1" strike="noStrike">
              <a:solidFill>
                <a:srgbClr val="000000"/>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 ¼ the ladder length</a:t>
            </a:r>
            <a:endParaRPr b="0" lang="en-US" sz="1800" spc="-1" strike="noStrike">
              <a:solidFill>
                <a:srgbClr val="000000"/>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imum slope 50 degrees</a:t>
            </a:r>
            <a:endParaRPr b="0" lang="en-US" sz="18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id rest across opening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 base from bump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chard ladder pole on ground </a:t>
            </a:r>
            <a:endParaRPr b="0" lang="en-US" sz="2000" spc="-1" strike="noStrike">
              <a:solidFill>
                <a:srgbClr val="000000"/>
              </a:solidFill>
              <a:latin typeface="Arial"/>
            </a:endParaRPr>
          </a:p>
        </p:txBody>
      </p:sp>
      <p:sp>
        <p:nvSpPr>
          <p:cNvPr id="11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void...</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lacing ladder in front of unlocked/unguarded door</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lacing ladder on boxes, table, trucks or other movable objec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Wrong?</a:t>
            </a:r>
            <a:endParaRPr b="0" lang="en-US" sz="4400" spc="-1" strike="noStrike">
              <a:solidFill>
                <a:srgbClr val="000000"/>
              </a:solidFill>
              <a:latin typeface="Arial"/>
            </a:endParaRPr>
          </a:p>
        </p:txBody>
      </p:sp>
      <p:pic>
        <p:nvPicPr>
          <p:cNvPr id="112" name="" descr=""/>
          <p:cNvPicPr/>
          <p:nvPr/>
        </p:nvPicPr>
        <p:blipFill>
          <a:blip r:embed="rId1"/>
          <a:stretch/>
        </p:blipFill>
        <p:spPr>
          <a:xfrm>
            <a:off x="2133720" y="1450800"/>
            <a:ext cx="4724280" cy="466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ecuring a ladder</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il/lash in plac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 at least 36 inches above access area</a:t>
            </a:r>
            <a:endParaRPr b="0" lang="en-US" sz="24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void</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posed areas during storm or win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adders covered with ice or snow</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ing ladder if stairway can be used inst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752480" y="228600"/>
            <a:ext cx="537228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Ascending and descendin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e the ladd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sp rails with both hand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ise/lower heavy loads with hand line or hois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h light tools to ladder or person</a:t>
            </a: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void</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liding down ladd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limbing with slippery hands/shoe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ing hands to carry item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arrying awkward lo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905120" y="228600"/>
            <a:ext cx="5260680" cy="604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ecuring equipment</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trong bail hook on picker bucke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not using limb hook, secure it to ladder or nearby limb</a:t>
            </a:r>
            <a:endParaRPr b="0" lang="en-US" sz="2400" spc="-1" strike="noStrike">
              <a:solidFill>
                <a:srgbClr val="000000"/>
              </a:solidFill>
              <a:latin typeface="Arial"/>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void</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lacing tools/materials on ladder if they could fall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dder Safety - Introduc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falls involve portable ladder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ilt, shift during climb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slippery base surfac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tep/slip of f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s of balance (overreach)</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k by vehi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098800" y="228600"/>
            <a:ext cx="4653000" cy="601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Metal ladder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d resistant surface on steps, rungs</a:t>
            </a:r>
            <a:endParaRPr b="0" lang="en-US" sz="24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ugated</a:t>
            </a:r>
            <a:endParaRPr b="0" lang="en-US" sz="20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urled</a:t>
            </a:r>
            <a:endParaRPr b="0" lang="en-US" sz="20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mpled</a:t>
            </a:r>
            <a:endParaRPr b="0" lang="en-US" sz="20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ted</a:t>
            </a:r>
            <a:endParaRPr b="0" lang="en-US" sz="20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ARNING — Do Not Use Around Energized Electrical Equipment.”</a:t>
            </a:r>
            <a:endParaRPr b="0" lang="en-US" sz="24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void</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ing ladders with conductive rails near exposed, energized equi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5800" y="228600"/>
            <a:ext cx="7924680" cy="594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Precaution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feet firmly on rungs and step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erson only on standard ladder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 ladder that has collapsed, tipped, or exposed to harsh chemica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 extension ladder </a:t>
            </a:r>
            <a:r>
              <a:rPr b="0" lang="en-US" sz="2400" spc="-1" strike="noStrike" u="sng">
                <a:solidFill>
                  <a:srgbClr val="ffffff"/>
                </a:solidFill>
                <a:uFillTx/>
                <a:latin typeface="Arial"/>
              </a:rPr>
              <a:t>&gt;</a:t>
            </a:r>
            <a:r>
              <a:rPr b="0" lang="en-US" sz="2400" spc="-1" strike="noStrike">
                <a:solidFill>
                  <a:srgbClr val="ffffff"/>
                </a:solidFill>
                <a:latin typeface="Arial"/>
              </a:rPr>
              <a:t> 36 inches above acces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area around ladder free of debri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load on ladder (including worker) below maximum load capa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Ladder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a:t>
            </a:r>
            <a:endParaRPr b="0" lang="en-US" sz="28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int ladders; use transparent preservative</a:t>
            </a:r>
            <a:endParaRPr b="0" lang="en-US" sz="22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ladders with broken, patched, oily parts</a:t>
            </a:r>
            <a:endParaRPr b="0" lang="en-US" sz="22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ladder as guy, brace, or skid</a:t>
            </a:r>
            <a:endParaRPr b="0" lang="en-US" sz="22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nd or sit on top 2 steps of stepladder</a:t>
            </a:r>
            <a:endParaRPr b="0" lang="en-US" sz="2200" spc="-1" strike="noStrike">
              <a:solidFill>
                <a:srgbClr val="000000"/>
              </a:solidFill>
              <a:latin typeface="Arial"/>
            </a:endParaRPr>
          </a:p>
        </p:txBody>
      </p:sp>
      <p:sp>
        <p:nvSpPr>
          <p:cNvPr id="1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h out over side rails, lean, tur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elf-supporting ladders without spreader or locking devic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ladder beyond maximum load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nsporting Ladder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 carry</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e front end</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hicle transport</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 to be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toss or throw into be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ladder so it won’t bend or sa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e ladder to vehicl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 slowly over rough ter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ring Ladder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ll ventilated area</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 exposure to moisture/excessive heat</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straight/extension ladder on flat racks or wall brackets – no sagging</a:t>
            </a:r>
            <a:endParaRPr b="0" lang="en-US" sz="2600" spc="-1" strike="noStrike">
              <a:solidFill>
                <a:srgbClr val="000000"/>
              </a:solidFill>
              <a:latin typeface="Arial"/>
            </a:endParaRPr>
          </a:p>
        </p:txBody>
      </p:sp>
      <p:sp>
        <p:nvSpPr>
          <p:cNvPr id="13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stepladder and orchard ladder vertically in closed position</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promptly after use</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 exposure of wood and fiberglass to moisture and sunligh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aintaining Ladder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lected ladders quickly become unsafe ladder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enance – regular inspection, tighten step bolts and fastenings</a:t>
            </a:r>
            <a:endParaRPr b="0" lang="en-US" sz="3200" spc="-1" strike="noStrike">
              <a:solidFill>
                <a:srgbClr val="000000"/>
              </a:solidFill>
              <a:latin typeface="Arial"/>
            </a:endParaRPr>
          </a:p>
          <a:p>
            <a:pPr marL="343080" indent="-34308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 not paint wooden ladder – hides defects</a:t>
            </a:r>
            <a:endParaRPr b="0" lang="en-US" sz="31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airing Ladd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oden ladder: replace lower steps when ¼ of step is worn awa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kid surface reduces wea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use cleats to repair rung ladd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paint wooden ladder</a:t>
            </a: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repair parts – </a:t>
            </a:r>
            <a:r>
              <a:rPr b="0" lang="en-US" sz="2800" spc="-1" strike="noStrike">
                <a:solidFill>
                  <a:srgbClr val="ffffff"/>
                </a:solidFill>
                <a:latin typeface="Arial"/>
              </a:rPr>
              <a:t>ladder bolts, lower steps, related hard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rove Slip Resistanc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th-backed mineral abrasiv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slip abrasive surfac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rse-ground walnut shel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impling (for metal lad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dder Safety - Introduc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duce ladder fall risk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tly inspect and maintain ladder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asks to appropriate ladder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up ladders correctl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b and descend ladders properly. </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ers - responsibility to train work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ecklis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le from EH&amp;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dder hazard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dder train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finition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ent pers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on ladd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on trestle ladd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n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dd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form ladder</a:t>
            </a:r>
            <a:endParaRPr b="0" lang="en-US" sz="2400" spc="-1" strike="noStrike">
              <a:solidFill>
                <a:srgbClr val="000000"/>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g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al ladd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or straight) ladd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purpose ladd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ladd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d widt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tle lad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dder Safety - Introduc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OSHA regul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6" name=""/>
          <p:cNvGraphicFramePr/>
          <p:nvPr/>
        </p:nvGraphicFramePr>
        <p:xfrm>
          <a:off x="457200" y="2362320"/>
          <a:ext cx="8229600" cy="3581280"/>
        </p:xfrm>
        <a:graphic>
          <a:graphicData uri="http://schemas.openxmlformats.org/drawingml/2006/table">
            <a:tbl>
              <a:tblPr/>
              <a:tblGrid>
                <a:gridCol w="3124080"/>
                <a:gridCol w="5105520"/>
              </a:tblGrid>
              <a:tr h="89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ision</a:t>
                      </a:r>
                      <a:r>
                        <a:rPr b="0" lang="en-US" sz="2800" spc="-1" strike="noStrike">
                          <a:solidFill>
                            <a:srgbClr val="ffffff"/>
                          </a:solidFill>
                          <a:latin typeface="Arial"/>
                        </a:rPr>
                        <a:t>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ubdivision</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893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General)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Walking/ working  Surfaces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89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onstruction)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Stairways and Ladders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893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griculture)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Ladders and Scaffolds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dder Ratings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rating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ximum working load</a:t>
            </a:r>
            <a:endParaRPr b="0" lang="en-US" sz="2800" spc="-1" strike="noStrike">
              <a:solidFill>
                <a:srgbClr val="000000"/>
              </a:solidFill>
              <a:latin typeface="Arial"/>
            </a:endParaRPr>
          </a:p>
        </p:txBody>
      </p:sp>
      <p:graphicFrame>
        <p:nvGraphicFramePr>
          <p:cNvPr id="69" name=""/>
          <p:cNvGraphicFramePr/>
          <p:nvPr/>
        </p:nvGraphicFramePr>
        <p:xfrm>
          <a:off x="3886200" y="1600200"/>
          <a:ext cx="4800600" cy="4552920"/>
        </p:xfrm>
        <a:graphic>
          <a:graphicData uri="http://schemas.openxmlformats.org/drawingml/2006/table">
            <a:tbl>
              <a:tblPr/>
              <a:tblGrid>
                <a:gridCol w="2400480"/>
                <a:gridCol w="24001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ng</a:t>
                      </a:r>
                      <a:r>
                        <a:rPr b="0" lang="en-US" sz="2800" spc="-1" strike="noStrike">
                          <a:solidFill>
                            <a:srgbClr val="ffffff"/>
                          </a:solidFill>
                          <a:latin typeface="Arial"/>
                        </a:rPr>
                        <a:t>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Load</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904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 heavy duty (I-A)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 pounds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89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duty (I)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 pounds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um duty (II)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5 pounds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duty (III) </a:t>
                      </a: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pounds </a:t>
                      </a:r>
                      <a:endParaRPr b="0" lang="en-US" sz="2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Portable Ladd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elf-supporting ladder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supporting ladder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self-supporting ladd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ingle portable or straight ladder</a:t>
            </a: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p-resistant feet</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foot maximum length</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orker</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od, metal, fiberglass</a:t>
            </a:r>
            <a:endParaRPr b="0" lang="en-US" sz="2400" spc="-1" strike="noStrike">
              <a:solidFill>
                <a:srgbClr val="000000"/>
              </a:solidFill>
              <a:latin typeface="Arial"/>
            </a:endParaRPr>
          </a:p>
        </p:txBody>
      </p:sp>
      <p:pic>
        <p:nvPicPr>
          <p:cNvPr id="74" name="" descr=""/>
          <p:cNvPicPr/>
          <p:nvPr/>
        </p:nvPicPr>
        <p:blipFill>
          <a:blip r:embed="rId1"/>
          <a:stretch/>
        </p:blipFill>
        <p:spPr>
          <a:xfrm>
            <a:off x="0" y="4114800"/>
            <a:ext cx="883908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4e47"/>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self-supporting ladders</a:t>
            </a:r>
            <a:endParaRPr b="0" lang="en-US" sz="4400" spc="-1" strike="noStrike">
              <a:solidFill>
                <a:srgbClr val="000000"/>
              </a:solidFill>
              <a:latin typeface="Arial"/>
            </a:endParaRPr>
          </a:p>
        </p:txBody>
      </p:sp>
      <p:sp>
        <p:nvSpPr>
          <p:cNvPr id="76" name="PlaceHolder 2"/>
          <p:cNvSpPr>
            <a:spLocks noGrp="1"/>
          </p:cNvSpPr>
          <p:nvPr>
            <p:ph/>
          </p:nvPr>
        </p:nvSpPr>
        <p:spPr>
          <a:xfrm>
            <a:off x="380520" y="1066680"/>
            <a:ext cx="4038840" cy="32004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Extension or section ladder</a:t>
            </a: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or more sections</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 section on top</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section overlap</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od, metal, fiberglass</a:t>
            </a:r>
            <a:endParaRPr b="0" lang="en-US" sz="2400" spc="-1" strike="noStrike">
              <a:solidFill>
                <a:srgbClr val="000000"/>
              </a:solidFill>
              <a:latin typeface="Arial"/>
            </a:endParaRPr>
          </a:p>
        </p:txBody>
      </p:sp>
      <p:sp>
        <p:nvSpPr>
          <p:cNvPr id="77" name="PlaceHolder 3"/>
          <p:cNvSpPr>
            <a:spLocks noGrp="1"/>
          </p:cNvSpPr>
          <p:nvPr>
            <p:ph/>
          </p:nvPr>
        </p:nvSpPr>
        <p:spPr>
          <a:xfrm>
            <a:off x="4648320" y="1066680"/>
            <a:ext cx="4038480" cy="32004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erson </a:t>
            </a:r>
            <a:endParaRPr b="0" lang="en-US" sz="2400" spc="-1" strike="noStrike">
              <a:solidFill>
                <a:srgbClr val="000000"/>
              </a:solidFill>
              <a:latin typeface="Arial"/>
            </a:endParaRPr>
          </a:p>
        </p:txBody>
      </p:sp>
      <p:pic>
        <p:nvPicPr>
          <p:cNvPr id="78" name="" descr=""/>
          <p:cNvPicPr/>
          <p:nvPr/>
        </p:nvPicPr>
        <p:blipFill>
          <a:blip r:embed="rId1"/>
          <a:stretch/>
        </p:blipFill>
        <p:spPr>
          <a:xfrm>
            <a:off x="0" y="4267080"/>
            <a:ext cx="914400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7:35:18Z</dcterms:created>
  <dc:creator>Lance Jones</dc:creator>
  <dc:description/>
  <dc:language>en-US</dc:language>
  <cp:lastModifiedBy>Lance Jones</cp:lastModifiedBy>
  <dcterms:modified xsi:type="dcterms:W3CDTF">2007-02-27T19:00:21Z</dcterms:modified>
  <cp:revision>36</cp:revision>
  <dc:subject/>
  <dc:title>Ladder Safety</dc:title>
</cp:coreProperties>
</file>