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F9AA-5573-47AE-BFC3-7CB16A83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VER WEATHER CONDITIONS  THE FACILITY MUST MONITOR THE SITUTION VIA RADIO OR 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THE PLANT CALL SOMEONE EXTERNAL FOR APPROVAL TO IMPLEMENT THE 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GUIDELINES  BEEN ESTABLISHED THAT ADDRESS WHENTO IMPLEMENT THE P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EQUIPMENT SHUTDOWN DOES NOT MEAN THE POTIENTAL OF LOST PRODU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OOK AT EQUIPMENT THAT IF LEFT UN-ATTENDED W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HAZARD ITSELF.  BOILERS, BANBURY (FI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JUST HIT THE “E” STOP AND GO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TILITY SERVICES ARE IMPORTANT THAT PEOPLE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Y ARE (GAS) AND THEY ARE IDEN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SIGNALS ON A ROUTINE BASIS TO ENSURE THEY CANBE HEARD THROUGHPUT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LLS SHOULD INCLUDE BOTH INTERNAL AND EX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NBER ,  ALL EMPLOYEES NEED TO GO THROUGH THE DRILL, IF YOU HAVE BACK SHIFTS THEY MUST ALSO PARTICIPATE IN A DRI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SHOULD BE POSTED IN THE DEPARTMENTS  INDIC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GO  BOTH  INSIDE AN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KNOW IF ALL EMPLOYEES  GOT OUT AND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HAT IT THE METHOD OF RECOV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HAT CONDITIONS IS AN  ALL CLEAR GIVEN AND WHO HAS AUTHORITY TO GI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PLANT ORIENTAION OF NEW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EMPLOYEES  BEING  RANSFERED INTO OTHER DEPARTMENTS NEED  TO BE MADE AWARE OF WHAT THEY SHOULD DO AND WHERE TO STAGE BOTH INTERNAL AND EXTE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MEETINGS ARE A GOOD VEHICLE TO COMMUNICATE CHANGES TO THE 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 OF THE 1910.38 FREQUENTLY OVERLOO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LEMENTS OF AN 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BE FOCUSING IN ON 1910.38 TO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AC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 PREVEN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TALK ABOUT EVACUATION WE MUST LOOK AT TWO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(WEATH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XTERNAL ( FIRE, EXPLOSION, BOMB, SP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73A-68F1-4F15-9330-50A6BF11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B11-DAF5-440B-BA38-58FD769E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034-48D2-4E5C-8BF5-FE984580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BE7-55B0-441E-9341-B904E47D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752-1CAA-4C3C-8B30-4BDC2A8B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068-4ECC-4126-99ED-20D885C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CC7-3616-4119-8BC0-84A95B3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4B5-9264-445F-B2D5-5E50066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984-C53F-4362-9C86-4BD5829C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339-6507-4B94-AF1E-950A14E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33E-44E9-448B-821F-BF78C3E5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712-5CB3-4826-A535-231C28E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433B-6B80-4533-A710-1FF2267B3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ERGENC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es / w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aware / internal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has authority to implement the emergency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manager or desig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ment shut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ilit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ut-off’s identified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g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cuation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least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g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s / routes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count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cuation coord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team swe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ed by local fire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clear is given by  the site manager or desig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ARM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 for necessary emerg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your local alarm system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evac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she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ININ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n emergency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emergency action plan is changed or re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11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 PROTE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PLACE FIRE HA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Fir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age and Handl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mmabl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Ignitio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Work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Fl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the accumulation of flammable and combustible wast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keep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and work areas free from t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oily rags in covered containers with daily dis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ically remove over spray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combustible materials required for work operatio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INING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 use of fire extinguis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 of fire alarm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nd disposal of smok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ce of electrical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 storage of flammable and combustibl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e handling of compressed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581280" y="3581280"/>
          <a:ext cx="4876920" cy="21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581280"/>
                    <a:ext cx="487692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69960" y="304920"/>
          <a:ext cx="2475000" cy="5333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304920"/>
                    <a:ext cx="24750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9520" y="12949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YOU READ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 your evacuation routes and staging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 the alar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 fighting is limited to “incipient”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tal spill control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4880" y="304560"/>
            <a:ext cx="7601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16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mployees must be familiar with the site emergency respons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lan is designed to create effective communications between employees and emergency response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us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c 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recognize the emergency,  call for help and stay with victim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 REQUIREMEN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0.38(a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e Emergency Pla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escap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equipment shutdow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 cou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cue and medical duties outl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erred means of reporting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s of employees responsible for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dr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657600" y="1676520"/>
          <a:ext cx="5486400" cy="10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676520"/>
                    <a:ext cx="548640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-942840" y="-247680"/>
          <a:ext cx="5476680" cy="14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42840" y="-247680"/>
                    <a:ext cx="5476680" cy="1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8080" y="380880"/>
            <a:ext cx="8042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ARE WE CONCER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6280" y="1752480"/>
            <a:ext cx="7635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 employee could be faced with an emergency at any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 employee needs to know how to get help during an emer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RE THE  MOST COMMON TYPES OF EMERGEN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6280" y="2971800"/>
            <a:ext cx="7711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 and sm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3236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YOUR EMERGENCY RESPONSE PROCED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LETTER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C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REMEMBER THE PROCED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gnized the Emergency Sit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for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y with the Victim(s) Until Help Arrives if medical emergency. Render only appropriate first aid based on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88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quickest way out of the bui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ypes of alarms do you have in your work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gathering point for accounting for all employees after an evac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are the nearest fire extinguis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DOES IT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ergency Action Plans required by a particular OSHA standard shall be in writing and shall cover those designated actions employers and employees must take to ensure employee safety from fire and other emergenci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C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 / expl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mb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ous material rel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8:53:28Z</dcterms:created>
  <dc:creator/>
  <dc:description/>
  <dc:language>en-US</dc:language>
  <cp:lastModifiedBy>chuck gessner</cp:lastModifiedBy>
  <dcterms:modified xsi:type="dcterms:W3CDTF">2002-09-16T22:52:55Z</dcterms:modified>
  <cp:revision>8</cp:revision>
  <dc:subject/>
  <dc:title>EMERGENCY ACTION PLAN</dc:title>
</cp:coreProperties>
</file>