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5.wmf" ContentType="image/x-wmf"/>
  <Override PartName="/ppt/media/image22.jpeg" ContentType="image/jpeg"/>
  <Override PartName="/ppt/media/image14.png" ContentType="image/png"/>
  <Override PartName="/ppt/media/image9.jpeg" ContentType="image/jpeg"/>
  <Override PartName="/ppt/media/image3.wmf" ContentType="image/x-wmf"/>
  <Override PartName="/ppt/media/image1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87320" y="404892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67280" y="38098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7320" y="40489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7280" y="40489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51280" y="38098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115600" y="38098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87320" y="40489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951280" y="40489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115600" y="40489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87320" y="3809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67280" y="380988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37875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7280" y="380988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87320" y="40489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87320" y="3809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67280" y="38098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67280" y="40489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7280" y="38098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87320" y="404892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87320" y="404892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7280" y="38098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87320" y="40489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7280" y="40489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51280" y="38098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15600" y="38098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87320" y="40489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51280" y="40489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115600" y="40489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87320" y="3809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067280" y="380988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62120" y="37875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67280" y="380988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87320" y="40489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067280" y="38098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067280" y="40489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067280" y="38098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87320" y="404892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87320" y="404892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67280" y="38098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87320" y="40489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067280" y="40489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951280" y="38098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15600" y="38098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787320" y="40489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2951280" y="40489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115600" y="40489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87320" y="3809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67280" y="380988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067280" y="380988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62120" y="37875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067280" y="380988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87320" y="40489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067280" y="38098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067280" y="40489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067280" y="38098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87320" y="404892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87320" y="404892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7280" y="38098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87320" y="40489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067280" y="40489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951280" y="38098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15600" y="38098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87320" y="40489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2951280" y="40489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115600" y="40489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62120" y="37875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7280" y="380988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7320" y="40489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7280" y="38098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7280" y="40489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87320" y="38098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67280" y="38098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87320" y="404892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1523520"/>
            <a:chOff x="0" y="0"/>
            <a:chExt cx="8686800" cy="1523520"/>
          </a:xfrm>
        </p:grpSpPr>
        <p:sp>
          <p:nvSpPr>
            <p:cNvPr id="1" name=""/>
            <p:cNvSpPr/>
            <p:nvPr/>
          </p:nvSpPr>
          <p:spPr>
            <a:xfrm>
              <a:off x="0" y="1438920"/>
              <a:ext cx="8686800" cy="8460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686800" cy="14389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770400">
            <a:off x="380520" y="304920"/>
            <a:ext cx="762120" cy="685800"/>
          </a:xfrm>
          <a:prstGeom prst="star5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4160" y="6400800"/>
            <a:ext cx="88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0D02-08DD-4937-99D8-CA122429F6B7}" type="slidenum">
              <a:rPr b="1" lang="es-ES" sz="12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686800" y="0"/>
            <a:ext cx="74520" cy="6168960"/>
          </a:xfrm>
          <a:custGeom>
            <a:avLst/>
            <a:gdLst/>
            <a:ahLst/>
            <a:rect l="l" t="t" r="r" b="b"/>
            <a:pathLst>
              <a:path w="432" h="3804">
                <a:moveTo>
                  <a:pt x="0" y="0"/>
                </a:moveTo>
                <a:lnTo>
                  <a:pt x="0" y="3754"/>
                </a:lnTo>
                <a:lnTo>
                  <a:pt x="396" y="3804"/>
                </a:lnTo>
                <a:lnTo>
                  <a:pt x="432" y="0"/>
                </a:lnTo>
                <a:lnTo>
                  <a:pt x="0" y="0"/>
                </a:lnTo>
                <a:close/>
              </a:path>
            </a:pathLst>
          </a:custGeom>
          <a:solidFill>
            <a:srgbClr val="c40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839080" y="0"/>
            <a:ext cx="76320" cy="6324480"/>
          </a:xfrm>
          <a:custGeom>
            <a:avLst/>
            <a:gdLst/>
            <a:ahLst/>
            <a:rect l="l" t="t" r="r" b="b"/>
            <a:pathLst>
              <a:path w="432" h="3804">
                <a:moveTo>
                  <a:pt x="0" y="0"/>
                </a:moveTo>
                <a:lnTo>
                  <a:pt x="0" y="3754"/>
                </a:lnTo>
                <a:lnTo>
                  <a:pt x="396" y="3804"/>
                </a:lnTo>
                <a:lnTo>
                  <a:pt x="43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750080" y="64008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©2006 TE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740040"/>
            <a:ext cx="8534520" cy="1295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4120" y="609480"/>
            <a:ext cx="3281400" cy="749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8280" y="549360"/>
            <a:ext cx="2028600" cy="822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686800" cy="1523520"/>
            <a:chOff x="0" y="0"/>
            <a:chExt cx="8686800" cy="1523520"/>
          </a:xfrm>
        </p:grpSpPr>
        <p:sp>
          <p:nvSpPr>
            <p:cNvPr id="89" name=""/>
            <p:cNvSpPr/>
            <p:nvPr/>
          </p:nvSpPr>
          <p:spPr>
            <a:xfrm>
              <a:off x="0" y="1438920"/>
              <a:ext cx="8686800" cy="8460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8686800" cy="14389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770400">
            <a:off x="380520" y="304920"/>
            <a:ext cx="762120" cy="685800"/>
          </a:xfrm>
          <a:prstGeom prst="star5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4160" y="6400800"/>
            <a:ext cx="88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0899-112C-483A-99D1-BAD39D3C4A8D}" type="slidenum">
              <a:rPr b="1" lang="es-ES" sz="12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86800" y="0"/>
            <a:ext cx="74520" cy="6168960"/>
          </a:xfrm>
          <a:custGeom>
            <a:avLst/>
            <a:gdLst/>
            <a:ahLst/>
            <a:rect l="l" t="t" r="r" b="b"/>
            <a:pathLst>
              <a:path w="432" h="3804">
                <a:moveTo>
                  <a:pt x="0" y="0"/>
                </a:moveTo>
                <a:lnTo>
                  <a:pt x="0" y="3754"/>
                </a:lnTo>
                <a:lnTo>
                  <a:pt x="396" y="3804"/>
                </a:lnTo>
                <a:lnTo>
                  <a:pt x="432" y="0"/>
                </a:lnTo>
                <a:lnTo>
                  <a:pt x="0" y="0"/>
                </a:lnTo>
                <a:close/>
              </a:path>
            </a:pathLst>
          </a:custGeom>
          <a:solidFill>
            <a:srgbClr val="c40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39080" y="0"/>
            <a:ext cx="76320" cy="6324480"/>
          </a:xfrm>
          <a:custGeom>
            <a:avLst/>
            <a:gdLst/>
            <a:ahLst/>
            <a:rect l="l" t="t" r="r" b="b"/>
            <a:pathLst>
              <a:path w="432" h="3804">
                <a:moveTo>
                  <a:pt x="0" y="0"/>
                </a:moveTo>
                <a:lnTo>
                  <a:pt x="0" y="3754"/>
                </a:lnTo>
                <a:lnTo>
                  <a:pt x="396" y="3804"/>
                </a:lnTo>
                <a:lnTo>
                  <a:pt x="43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750080" y="64008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©2006 TE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3740040"/>
            <a:ext cx="8534520" cy="1295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334120" y="609480"/>
            <a:ext cx="3281400" cy="749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38280" y="549360"/>
            <a:ext cx="2028600" cy="82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Welding, Cutting, and Brazing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87320" y="3809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ODULE 16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Special Precaution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hor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 responsible individual must inspect the area and designate precautions, preferably by written per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Combustible materials must be swept 35 feet away; combustible floors must be wetted or protected (while preventing arc welding sho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Special Precaution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hibited ar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welding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uthorized b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sprinklers are impa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sive atm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r storage of large quantities of readily ignitable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ocation of Combusti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mbustibles shall be moved 35 feet away or properly protected or shiel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Special Precaution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c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ucts &amp; conveyor systems that might carry sparks must be shut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bustible wa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ust be shielded or guar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combustible wa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artitions or ceilings (when welded) require opposite-side moving of combustibles or a fire wa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bustible cov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No welding on certain metal building components having combustible covers or la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Special Precaution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p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 any metal) close enough to combustibles to cause ignition by conduction may not be cut or wel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ponsibil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proper area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ate responsible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e contractors of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Special Precaution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vis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ty of equipment &amp;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combustibles &amp; hazardous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combustibles from ignition through moving, shielding and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e author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go-ahead to cutter or we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fire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fire watches if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Welding or Cutting Container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d contain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st be cleaned of flammable materials or other materials that could release toxic of flammable vapors when h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nting &amp; purg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required for hollow spaces or ca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Confined Space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autions must be taken during long* pauses in arc welding to prev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idental contact of electr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ch valve gas leaks in gas weld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During lunch or over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Protection of Personnel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i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other suitable fall protection must be provided as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ding cable and other equipment must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pt cl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passageways, ladders and stair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ye prot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ctive equi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specific appropriate types must be worn.  Nearby workers must be protected from arc welding r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Subtitles &amp; Transitions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87320" y="3809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OR EXAMPLE…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1" name=""/>
          <p:cNvSpPr/>
          <p:nvPr/>
        </p:nvSpPr>
        <p:spPr>
          <a:xfrm rot="770400">
            <a:off x="228240" y="3352680"/>
            <a:ext cx="762120" cy="685800"/>
          </a:xfrm>
          <a:prstGeom prst="star5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5791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58180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Protection of Personnel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ined spa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quires considera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cylinders and machin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de removal (arc wel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 cylinder shutoff (gas welding &amp; cut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ning signs for hot 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Hazards of Welding Operation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 spla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 shoc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on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d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nt ener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ould these hazards be found on oil and gas well si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Health Protection &amp; Ventilation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requirements for protecting welders are based on 3 fa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ensions of space (especially ceiling height) in which welding is to be d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we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evolution of hazardous fumes, gases, or dust according to the metals inv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Natural and Mechanical Ventilation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not be restricted by scre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cient to keep concentrations &lt;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cal ventilation required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s not describe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s &lt;10,000 feet per we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ms with ceilings lower than 16 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ned spaces or areas with barriers to natural cross vent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Dilution Ventilation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105520" y="1676160"/>
            <a:ext cx="350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nt should travel away from breathing z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exhaust ventilation may be more eff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1914480" cy="1895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048120" y="1600200"/>
            <a:ext cx="1885680" cy="18860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1933560" cy="18954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3048120" y="4114800"/>
            <a:ext cx="1933560" cy="19335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33520" y="35053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8120" y="35053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60199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60199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Ventilation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ned space: ventilation first; respirators if ventilation im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rules for specific 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doors: Just stay below 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Transmission pipeline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rules in 1910.252(d)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electric shock protection for wet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testing: Worker and public protection against blowing out or loose d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: API Std. 1104-19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mmable substance lines: API Std. PSD No. 2201-19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-ray inspection: ANSI Z54.1-19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Oxygen-Fuel Ga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Welding &amp; Cutting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mmable mixtures of fuel gases and air or oxygen must be guarded again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pressures of 15 psi  for acetylene must be observed (with certain rare exception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ved apparat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nt personnel in charge of supply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Cylinders &amp; Container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val &amp; Marking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 compl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ibly mark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I compliant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ve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038480" y="3581280"/>
            <a:ext cx="3886200" cy="2914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33520" y="4114800"/>
            <a:ext cx="3276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Cylinders &amp; Containers: Storage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ay from heat sources (such as radia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nside build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-protected, ventilated, dry location at least 20 ft from combust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ed storage spaces, protected from damage &amp; tamp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empty: closed va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not in use: hand-tight valve protection c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Oxygen Storage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ect oxygen cylinders from fire hazards such as acetyle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tanc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 ft from fuel-gas cylinders or combustibles,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rrier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ft high noncombustible partition with half-hour fire-resistance ra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334120" cy="267156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Arc Welding &amp; Cutting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mpliant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design for exposure to weather, flammable gases, marine condi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men who operate or maintain arc welding equipment shall be acquainted with the requirements of 1910.254 and 1910.2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Three Basic Types of Welding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lower and easier to control than electric arc.  Uses gas flame over metals until molten puddle is formed.  Most popular fuels used with oxygen include acetylene, mapp gas, and hydro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wo metals are joined by generating an electric arc between a covered metal electrode and the base me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xygen and Arc Cut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etal cutting in welding is the severing or removal of metal by a flame or ar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Arc Welding &amp; Cutting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de hold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not in use must be kept from shocking people and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against electric shoc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use cable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l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10 feet (3 m) of the h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elder should not coil or loop welding electrode cable around parts of his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tena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ensure safe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maged cables &amp; equipment must be repla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and cables must be joined properly and have adequate ins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Operating procedures 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linders, cylinder valves, couplings, regulators, hose, and apparatus kept free from oily or greasy substa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 cylinders shall not be handled with oily hands or glo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et of oxygen must never be permitted to strike an oily surface, greasy clothes, or enter a fuel oil or other storage t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Operating procedures 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ransporting cylinders by a cra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cradle or suitable platfor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use slings or electric mag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ve-protection caps always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362320" y="4267080"/>
            <a:ext cx="42670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Operating procedures 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800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use valve-protection caps to lift cylinders from one vertical position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use bars under valves or valve-protection caps to pry cylinders lo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use warm (not boiling)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5334120" y="1981080"/>
            <a:ext cx="2982600" cy="3733200"/>
            <a:chOff x="5334120" y="1981080"/>
            <a:chExt cx="2982600" cy="3733200"/>
          </a:xfrm>
        </p:grpSpPr>
        <p:grpSp>
          <p:nvGrpSpPr>
            <p:cNvPr id="267" name=""/>
            <p:cNvGrpSpPr/>
            <p:nvPr/>
          </p:nvGrpSpPr>
          <p:grpSpPr>
            <a:xfrm>
              <a:off x="6778440" y="3110760"/>
              <a:ext cx="748440" cy="2603520"/>
              <a:chOff x="6778440" y="3110760"/>
              <a:chExt cx="748440" cy="2603520"/>
            </a:xfrm>
          </p:grpSpPr>
          <p:sp>
            <p:nvSpPr>
              <p:cNvPr id="268" name=""/>
              <p:cNvSpPr/>
              <p:nvPr/>
            </p:nvSpPr>
            <p:spPr>
              <a:xfrm>
                <a:off x="7001640" y="3110760"/>
                <a:ext cx="218520" cy="589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69" name=""/>
              <p:cNvGraphicFramePr/>
              <p:nvPr/>
            </p:nvGraphicFramePr>
            <p:xfrm>
              <a:off x="6778440" y="3503520"/>
              <a:ext cx="748440" cy="2210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7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778440" y="3503520"/>
                        <a:ext cx="748440" cy="2210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71" name=""/>
            <p:cNvGraphicFramePr/>
            <p:nvPr/>
          </p:nvGraphicFramePr>
          <p:xfrm>
            <a:off x="5684040" y="2373840"/>
            <a:ext cx="2632680" cy="135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84040" y="2373840"/>
                      <a:ext cx="2632680" cy="135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73" name=""/>
            <p:cNvGrpSpPr/>
            <p:nvPr/>
          </p:nvGrpSpPr>
          <p:grpSpPr>
            <a:xfrm>
              <a:off x="6296760" y="1981080"/>
              <a:ext cx="1575720" cy="1817640"/>
              <a:chOff x="6296760" y="1981080"/>
              <a:chExt cx="1575720" cy="1817640"/>
            </a:xfrm>
          </p:grpSpPr>
          <p:sp>
            <p:nvSpPr>
              <p:cNvPr id="274" name=""/>
              <p:cNvSpPr/>
              <p:nvPr/>
            </p:nvSpPr>
            <p:spPr>
              <a:xfrm>
                <a:off x="6296760" y="1981080"/>
                <a:ext cx="1575720" cy="1817640"/>
              </a:xfrm>
              <a:prstGeom prst="donut">
                <a:avLst>
                  <a:gd name="adj" fmla="val 715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559200" y="2324520"/>
                <a:ext cx="1050480" cy="1179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5521680" y="4055760"/>
              <a:ext cx="775080" cy="1640880"/>
            </a:xfrm>
            <a:custGeom>
              <a:avLst/>
              <a:gdLst/>
              <a:ahLst/>
              <a:rect l="l" t="t" r="r" b="b"/>
              <a:pathLst>
                <a:path w="850" h="1603">
                  <a:moveTo>
                    <a:pt x="142" y="16"/>
                  </a:moveTo>
                  <a:cubicBezTo>
                    <a:pt x="243" y="0"/>
                    <a:pt x="349" y="26"/>
                    <a:pt x="451" y="34"/>
                  </a:cubicBezTo>
                  <a:cubicBezTo>
                    <a:pt x="524" y="83"/>
                    <a:pt x="476" y="319"/>
                    <a:pt x="502" y="445"/>
                  </a:cubicBezTo>
                  <a:cubicBezTo>
                    <a:pt x="491" y="714"/>
                    <a:pt x="484" y="983"/>
                    <a:pt x="468" y="1251"/>
                  </a:cubicBezTo>
                  <a:cubicBezTo>
                    <a:pt x="483" y="1445"/>
                    <a:pt x="465" y="1271"/>
                    <a:pt x="493" y="1431"/>
                  </a:cubicBezTo>
                  <a:cubicBezTo>
                    <a:pt x="496" y="1448"/>
                    <a:pt x="492" y="1468"/>
                    <a:pt x="502" y="1482"/>
                  </a:cubicBezTo>
                  <a:cubicBezTo>
                    <a:pt x="520" y="1507"/>
                    <a:pt x="552" y="1516"/>
                    <a:pt x="579" y="1525"/>
                  </a:cubicBezTo>
                  <a:cubicBezTo>
                    <a:pt x="662" y="1515"/>
                    <a:pt x="747" y="1506"/>
                    <a:pt x="828" y="1534"/>
                  </a:cubicBezTo>
                  <a:cubicBezTo>
                    <a:pt x="850" y="1603"/>
                    <a:pt x="790" y="1587"/>
                    <a:pt x="742" y="1602"/>
                  </a:cubicBezTo>
                  <a:cubicBezTo>
                    <a:pt x="659" y="1595"/>
                    <a:pt x="576" y="1584"/>
                    <a:pt x="493" y="1576"/>
                  </a:cubicBezTo>
                  <a:cubicBezTo>
                    <a:pt x="446" y="1567"/>
                    <a:pt x="432" y="1558"/>
                    <a:pt x="399" y="1525"/>
                  </a:cubicBezTo>
                  <a:cubicBezTo>
                    <a:pt x="371" y="1434"/>
                    <a:pt x="366" y="1337"/>
                    <a:pt x="356" y="1242"/>
                  </a:cubicBezTo>
                  <a:cubicBezTo>
                    <a:pt x="351" y="1133"/>
                    <a:pt x="347" y="1052"/>
                    <a:pt x="331" y="951"/>
                  </a:cubicBezTo>
                  <a:cubicBezTo>
                    <a:pt x="334" y="792"/>
                    <a:pt x="283" y="648"/>
                    <a:pt x="365" y="522"/>
                  </a:cubicBezTo>
                  <a:cubicBezTo>
                    <a:pt x="372" y="490"/>
                    <a:pt x="383" y="460"/>
                    <a:pt x="391" y="428"/>
                  </a:cubicBezTo>
                  <a:cubicBezTo>
                    <a:pt x="380" y="163"/>
                    <a:pt x="426" y="253"/>
                    <a:pt x="305" y="145"/>
                  </a:cubicBezTo>
                  <a:cubicBezTo>
                    <a:pt x="237" y="84"/>
                    <a:pt x="279" y="103"/>
                    <a:pt x="228" y="85"/>
                  </a:cubicBezTo>
                  <a:cubicBezTo>
                    <a:pt x="171" y="88"/>
                    <a:pt x="113" y="102"/>
                    <a:pt x="56" y="94"/>
                  </a:cubicBezTo>
                  <a:cubicBezTo>
                    <a:pt x="0" y="86"/>
                    <a:pt x="66" y="45"/>
                    <a:pt x="73" y="42"/>
                  </a:cubicBezTo>
                  <a:cubicBezTo>
                    <a:pt x="89" y="35"/>
                    <a:pt x="142" y="39"/>
                    <a:pt x="142" y="16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5334120" y="4240800"/>
              <a:ext cx="1181880" cy="1375560"/>
              <a:chOff x="5334120" y="4240800"/>
              <a:chExt cx="1181880" cy="1375560"/>
            </a:xfrm>
          </p:grpSpPr>
          <p:sp>
            <p:nvSpPr>
              <p:cNvPr id="278" name=""/>
              <p:cNvSpPr/>
              <p:nvPr/>
            </p:nvSpPr>
            <p:spPr>
              <a:xfrm>
                <a:off x="5334120" y="4240800"/>
                <a:ext cx="1181880" cy="1375560"/>
              </a:xfrm>
              <a:prstGeom prst="donut">
                <a:avLst>
                  <a:gd name="adj" fmla="val 715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31040" y="4500720"/>
                <a:ext cx="788040" cy="8924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Operating procedures 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5715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cylinders are mo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ors shall be remov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ve-protection caps, when provided for, shall be put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ess cylinders are secured on a special tr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365880" y="1522440"/>
            <a:ext cx="2092320" cy="50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Operating procedures 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linders without fixed hand wheels shall have keys, handles, or nonadjustab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enches on valve stems while cylinders are in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752480" y="4038480"/>
            <a:ext cx="54104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Operating procedures 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-gas cylinders shall be placed with valve end up whenever they are in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efied gases shall be stored and shipped with the valve en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447920" y="4267080"/>
            <a:ext cx="6095880" cy="21337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124080" y="4038480"/>
            <a:ext cx="2667240" cy="2667240"/>
          </a:xfrm>
          <a:prstGeom prst="noSmoking">
            <a:avLst>
              <a:gd name="adj" fmla="val 37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Operating procedures 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connecting a regulator to a cylinder va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the valve slightly; close immediate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he valve while standing to one side of the outlet; never in front of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crack a fuel-gas cylinder valve near other welding work or near sparks, flame, or other possible sources of i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Operating procedure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open the cylinder valve slow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open an acetylene cylinder valve more than 1.5 turns of the spindle, and preferably no more than 3/4 of a 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Hose and hose connections 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hose with leaks, burns, worn places,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arallel lengths of oxygen and fuel hose are taped together, not more than 4 of 12 inches covered by 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219320" y="4648320"/>
            <a:ext cx="3657600" cy="19810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5181480" y="4648320"/>
            <a:ext cx="228600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Oxygen and arc cutting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cutting process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xygen Cutt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etal is heated by gas flame and an oxygen jet does the cut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 Cutt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ntense heat of electric arc melts away the met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Test Your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1676520"/>
            <a:ext cx="3809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ong must a fire watch contin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48320" y="2590920"/>
            <a:ext cx="3809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dius of 35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59092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ar away must combustible materials be kept from wel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3886200"/>
            <a:ext cx="3809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responsible for making fire watchers avail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510552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work in confined spaces, what must be left outs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48320" y="5116680"/>
            <a:ext cx="38098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 cylinders &amp; welding mach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48320" y="388620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48320" y="1676520"/>
            <a:ext cx="3809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30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Examples &amp; Diagnosi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066680" y="1563840"/>
            <a:ext cx="6858000" cy="5141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Subtitles &amp; Transitions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787320" y="3809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OR EXAMPLE…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1" name=""/>
          <p:cNvSpPr/>
          <p:nvPr/>
        </p:nvSpPr>
        <p:spPr>
          <a:xfrm rot="770400">
            <a:off x="228240" y="3352680"/>
            <a:ext cx="762120" cy="685800"/>
          </a:xfrm>
          <a:prstGeom prst="star5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5791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848720" cy="6227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Subtitles &amp; Transitions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787320" y="3809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OR EXAMPLE…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6" name=""/>
          <p:cNvSpPr/>
          <p:nvPr/>
        </p:nvSpPr>
        <p:spPr>
          <a:xfrm rot="770400">
            <a:off x="228240" y="3352680"/>
            <a:ext cx="762120" cy="685800"/>
          </a:xfrm>
          <a:prstGeom prst="star5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9144000" cy="5791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848720" cy="6284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Subtitles &amp; Transitions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787320" y="3809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OR EXAMPLE…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1" name=""/>
          <p:cNvSpPr/>
          <p:nvPr/>
        </p:nvSpPr>
        <p:spPr>
          <a:xfrm rot="770400">
            <a:off x="228240" y="3352680"/>
            <a:ext cx="762120" cy="685800"/>
          </a:xfrm>
          <a:prstGeom prst="star5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9144000" cy="5791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772400" cy="6284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Subtitles &amp; Transitions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787320" y="3809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OR EXAMPLE…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6" name=""/>
          <p:cNvSpPr/>
          <p:nvPr/>
        </p:nvSpPr>
        <p:spPr>
          <a:xfrm rot="770400">
            <a:off x="228240" y="3352680"/>
            <a:ext cx="762120" cy="685800"/>
          </a:xfrm>
          <a:prstGeom prst="star5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9144000" cy="5791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848360" cy="6342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Subtitles &amp; Transitions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787320" y="3809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OR EXAMPLE…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1" name=""/>
          <p:cNvSpPr/>
          <p:nvPr/>
        </p:nvSpPr>
        <p:spPr>
          <a:xfrm rot="770400">
            <a:off x="228240" y="3352680"/>
            <a:ext cx="762120" cy="685800"/>
          </a:xfrm>
          <a:prstGeom prst="star5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0"/>
            <a:ext cx="9144000" cy="5791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772400" cy="6342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Subtitles &amp; Transitions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787320" y="3809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OR EXAMPLE…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6" name=""/>
          <p:cNvSpPr/>
          <p:nvPr/>
        </p:nvSpPr>
        <p:spPr>
          <a:xfrm rot="770400">
            <a:off x="228240" y="3352680"/>
            <a:ext cx="762120" cy="685800"/>
          </a:xfrm>
          <a:prstGeom prst="star5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9144000" cy="5791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772400" cy="6342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Subtitles &amp; Transitions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787320" y="3809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OR EXAMPLE…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1" name=""/>
          <p:cNvSpPr/>
          <p:nvPr/>
        </p:nvSpPr>
        <p:spPr>
          <a:xfrm rot="770400">
            <a:off x="228240" y="3352680"/>
            <a:ext cx="762120" cy="685800"/>
          </a:xfrm>
          <a:prstGeom prst="star5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9144000" cy="5791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990720" y="268200"/>
            <a:ext cx="7772400" cy="6284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Subtitles &amp; Transitions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787320" y="3809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OR EXAMPLE…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"/>
          <p:cNvSpPr/>
          <p:nvPr/>
        </p:nvSpPr>
        <p:spPr>
          <a:xfrm rot="770400">
            <a:off x="228240" y="3352680"/>
            <a:ext cx="762120" cy="685800"/>
          </a:xfrm>
          <a:prstGeom prst="star5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9144000" cy="5791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848360" cy="6342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Regulation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9 CFR 1910 Subpart 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9 CFR 1926 Subpart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I RP 54 Section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twork, Welding, and Flame Cutting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General Requirements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787320" y="3809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29 CFR 1910.252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"/>
          <p:cNvSpPr/>
          <p:nvPr/>
        </p:nvSpPr>
        <p:spPr>
          <a:xfrm rot="770400">
            <a:off x="228240" y="3352680"/>
            <a:ext cx="762120" cy="685800"/>
          </a:xfrm>
          <a:prstGeom prst="star5">
            <a:avLst/>
          </a:prstGeom>
          <a:solidFill>
            <a:srgbClr val="0033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2971800" cy="1752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457200"/>
            <a:ext cx="3505320" cy="9144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Fire Prevention Safeguard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e Haza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uld be removed if the welded object cannot be readily m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ar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be used if removing fire hazards is not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ri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ly (no cutting or welding allowed) if none of the above i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Subtitles &amp; Transitions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87320" y="3809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OR EXAMPLE…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"/>
          <p:cNvSpPr/>
          <p:nvPr/>
        </p:nvSpPr>
        <p:spPr>
          <a:xfrm rot="770400">
            <a:off x="228240" y="3352680"/>
            <a:ext cx="762120" cy="685800"/>
          </a:xfrm>
          <a:prstGeom prst="star5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5791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324480" y="2286000"/>
            <a:ext cx="2361960" cy="2133720"/>
            <a:chOff x="6324480" y="2286000"/>
            <a:chExt cx="2361960" cy="2133720"/>
          </a:xfrm>
        </p:grpSpPr>
        <p:graphicFrame>
          <p:nvGraphicFramePr>
            <p:cNvPr id="197" name=""/>
            <p:cNvGraphicFramePr/>
            <p:nvPr/>
          </p:nvGraphicFramePr>
          <p:xfrm>
            <a:off x="6476760" y="2338560"/>
            <a:ext cx="1878120" cy="177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76760" y="2338560"/>
                      <a:ext cx="1878120" cy="177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" name=""/>
            <p:cNvSpPr/>
            <p:nvPr/>
          </p:nvSpPr>
          <p:spPr>
            <a:xfrm>
              <a:off x="6324480" y="2286000"/>
              <a:ext cx="2361960" cy="2133720"/>
            </a:xfrm>
            <a:prstGeom prst="noSmoking">
              <a:avLst>
                <a:gd name="adj" fmla="val 497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09480" y="1066680"/>
            <a:ext cx="51325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Special Precaution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near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bustible materi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sparks that might escape through openings in floors or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e Extinguish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ready for instant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e W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sting at least 30 min after welding or cutting operations is required if more than a minor fire might develop and if certain combustible materials are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1:17:34Z</dcterms:created>
  <dc:creator> </dc:creator>
  <dc:description/>
  <dc:language>en-US</dc:language>
  <cp:lastModifiedBy>osha_user</cp:lastModifiedBy>
  <dcterms:modified xsi:type="dcterms:W3CDTF">2011-07-14T14:51:55Z</dcterms:modified>
  <cp:revision>42</cp:revision>
  <dc:subject/>
  <dc:title>Welding</dc:title>
</cp:coreProperties>
</file>