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2BB-AAB4-4BA0-9678-7D24D4FA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333-9603-4195-8368-5470E6BC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1A3-36AF-4A7A-A6A5-AB235052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E36-8CBE-4CC2-AD8C-065E4D33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6990-0456-44D7-92BE-B90F2BC5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F128-C1FA-4000-B92C-C75A0547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8091-A9A7-47D6-9A63-ED540687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3D33-67E6-4A2B-A90D-E452D5BE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3878-61E3-43A0-A26A-56176EB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82296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7043-6715-4BEC-8C27-A90CD02C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F729-E52C-46A9-BB9D-2F8DC61C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678-6564-4D03-B69C-4C13A4A4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CA4D-59D8-4E97-AA90-069625F3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08BE-E6AF-428F-81F8-0DC457C5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9996-DA72-4365-9123-02353643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68DF-CD8C-4F5A-A855-7E5E6292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DE85-CF17-488A-A922-2AD41134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732-2BAF-4386-AEF5-4BD8DFD1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ACB-67D0-4C9D-A6EC-191A179C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84F-EFB0-4290-B798-72797297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82296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0BD-E0C1-4D83-A8F4-571F320A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7C0-D49C-452C-ABFA-F9A4EAE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3E5-9712-485D-8D92-9269CFDE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298-C879-49AC-8C43-078421FE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66cc">
                  <a:alpha val="50196"/>
                </a:srgbClr>
              </a:gs>
              <a:gs pos="100000">
                <a:srgbClr val="1f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70f1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BAC-CB67-4369-A86B-A7BD7CBD7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5000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1f3e7d"/>
              </a:gs>
              <a:gs pos="50000">
                <a:srgbClr val="3366cc">
                  <a:alpha val="50196"/>
                </a:srgbClr>
              </a:gs>
              <a:gs pos="100000">
                <a:srgbClr val="1f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70f1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A387-26F3-4928-80E4-0CE8E115C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Font typeface="Monotype Sor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licosis Preven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5105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oduction to OSHA’s Special Emphasis Pro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Not%20just%20dust%20sticker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733920" cy="35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0DB-4218-4D5D-B116-BDFC0504D7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0"/>
          <a:ext cx="62308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6230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02E-E87A-4F9B-8837-EAF52CD76E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Silica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ses 15% of Earth’s Cru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 Crystalline Silica (regulat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as a diagnostic X-ray diffraction patte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 Amorphous Silica (not regulat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form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not distinguish by X-ray diffr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ass is comm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EF9-1FB2-4662-ACB0-B34EA1A1A3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rystalline Silic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d, Granite, other “Hard” ro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z, most comm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stobalite, Tridym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ch less common, but more toxic than quart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070-42BF-44AF-B04C-DB456DAA89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otential Silica Exposur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nd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ramics Indus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rasive Bla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5840" y="1981080"/>
            <a:ext cx="381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ing of cleaning ag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ng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of Coal (e.g., electric power gener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CC3-6CDD-471C-899B-E4C1159F90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454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lica and Mortal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0 Worker deaths per year from Si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ompare to 175 deaths/yr from trenching acciden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lico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g Cancer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spect Hum. Carcinogen –A2 (ACGIH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468-E0BD-46A6-BDEB-84678255738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alth Effe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ronic-Obstructive Pulmonary (Lung) Disease--COP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fects Aveolar Surf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s Elasti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vents Oxygen/CO2 Excha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351-8C77-4B63-88BD-97EAC180D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licosis Diagno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s Chest X-ra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-ray must be read by qualified “B-Reader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lica Nodules are Non-Reversi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BDF-8121-4551-8951-3218AAD49E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sease Classes of Silico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 Acute Silicosis (Highest Exp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ency of weeks to 5 ye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 Accelerated Silicosis  (High Exp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ency of 5 to 15 ye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hronic Silicosis (Moderate Exp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ency &gt;15 year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13C-1B29-4BF8-8539-EA1CC65D03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Silica</a:t>
            </a:r>
            <a:br>
              <a:rPr sz="5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cial Emphasis Progra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an in 199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of OSHA current Strategic Plan (through 200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iance Enforc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ing and Outreach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HA Web-s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 Development and Stakeholders Meetings Currently in Prog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477-5FE2-473F-880F-A87E121D39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licosis: </a:t>
            </a:r>
            <a:br>
              <a:rPr sz="4400"/>
            </a:b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Non-Curab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Disea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vention through Safe Workpractice is critic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317-A58C-4964-BEFB-EED35607C4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licosis Prevention Progra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ngineering Control of Du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raining on crystalline silic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spiratory protection progra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ork clothes, change and wash ar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1080" y="5361120"/>
            <a:ext cx="184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FB2-033C-4466-AE15-216F5EF3BF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licosis Prevention Progra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ir monitoring progra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dical surveill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usekeeping and Regulated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cordkee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1B0-EBE5-42F6-99A2-49A8886CD2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5000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43240" y="236232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mason%20in%20clou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6EC-891A-4C13-BDE9-964F7E0EAF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2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Target Crystalline Silica Exposure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 Toxicity is well documen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Widespread worker overexpos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Exposur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e controll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8B4-A13A-4C4E-9111-51F42DC58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ase Study, 1930’s:  Hawk’s Nest Tunne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uley Mt., W. V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30 – 193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d Deaths from Silicosi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0 to 7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Hawks%20Nest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B55-240E-4794-AEE9-0B79D6FD89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gress made:  Exposures in the 21</a:t>
            </a:r>
            <a:r>
              <a:rPr b="1" lang="en-US" sz="4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entu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road%20work--charlie%20shields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46748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816-13CE-447B-9872-D49A894D60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9D4-8C91-48B0-B416-060891A6B7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-360"/>
            <a:ext cx="8229600" cy="6095880"/>
          </a:xfrm>
          <a:prstGeom prst="rect">
            <a:avLst/>
          </a:prstGeom>
          <a:ln w="0">
            <a:noFill/>
          </a:ln>
        </p:spPr>
      </p:pic>
      <p:pic>
        <p:nvPicPr>
          <p:cNvPr id="104" name="Demo%20saw%20-%20no%20ventilation" descr=""/>
          <p:cNvPicPr/>
          <p:nvPr/>
        </p:nvPicPr>
        <p:blipFill>
          <a:blip r:embed="rId2"/>
          <a:stretch/>
        </p:blipFill>
        <p:spPr>
          <a:xfrm>
            <a:off x="1508040" y="0"/>
            <a:ext cx="5578560" cy="66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AEA-2F32-4331-9865-A9E319617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5715000" cy="6096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0560" y="380880"/>
            <a:ext cx="45734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B14-F013-41E7-994A-A05449BB5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667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8923" t="0" r="0" b="3849"/>
          <a:stretch/>
        </p:blipFill>
        <p:spPr>
          <a:xfrm>
            <a:off x="5334120" y="5335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ia Tech Safety and Health Consultation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E11-BB00-4DE5-B1CD-862BBA975043}" type="slidenum">
              <a:t>9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7T15:19:52Z</dcterms:created>
  <dc:creator>Art Wickman</dc:creator>
  <dc:description/>
  <dc:language>en-US</dc:language>
  <cp:lastModifiedBy>awickman</cp:lastModifiedBy>
  <cp:lastPrinted>1999-11-29T21:17:49Z</cp:lastPrinted>
  <dcterms:modified xsi:type="dcterms:W3CDTF">2004-07-13T20:27:03Z</dcterms:modified>
  <cp:revision>82</cp:revision>
  <dc:subject/>
  <dc:title>Occupational Exposure to Silica</dc:title>
</cp:coreProperties>
</file>