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png" ContentType="image/png"/>
  <Override PartName="/ppt/media/image2.jpeg" ContentType="image/jpeg"/>
  <Override PartName="/ppt/media/image25.wmf" ContentType="image/x-wmf"/>
  <Override PartName="/ppt/media/image3.jpeg" ContentType="image/jpeg"/>
  <Override PartName="/ppt/media/image28.wmf" ContentType="image/x-wmf"/>
  <Override PartName="/ppt/media/image16.wmf" ContentType="image/x-wmf"/>
  <Override PartName="/ppt/media/image27.wmf" ContentType="image/x-wmf"/>
  <Override PartName="/ppt/media/image26.wmf" ContentType="image/x-wmf"/>
  <Override PartName="/ppt/media/image29.png" ContentType="image/png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616700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16800" cy="85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882720" y="4084200"/>
            <a:ext cx="4851360" cy="3868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120" bIns="4212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1168200" y="650520"/>
            <a:ext cx="4281480" cy="3211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882720" y="4084560"/>
            <a:ext cx="4851360" cy="40687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120" bIns="4212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COME STUD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 YOURSELF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IND STUDENTS ABOU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TENDANCE ROST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DBACK FORM (IF USED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OUTS (IF USED--COPIES OF SLIDES 8 AND 15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ldImg"/>
          </p:nvPr>
        </p:nvSpPr>
        <p:spPr>
          <a:xfrm>
            <a:off x="1168560" y="650880"/>
            <a:ext cx="4281480" cy="3211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6856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2720" y="4084200"/>
            <a:ext cx="4851360" cy="3868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120" bIns="4212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LY REVIEW EACH EXTINGUISHER TYPE, STRENGTHS, WEAKNE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OUT STUDENTS HAVE COPY OF THIS SLIDE AS ONE OF HANDOU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6856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04560" y="4299120"/>
            <a:ext cx="6019560" cy="40068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120" bIns="4212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“WHAT DO I DO IF I SEE A FIRE?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ae00"/>
                </a:solidFill>
                <a:uFillTx/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CUE VICTI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ae00"/>
                </a:solidFill>
                <a:uFillTx/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M ACTIVATION TO SUMMON HELP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ae00"/>
                </a:solidFill>
                <a:uFillTx/>
                <a:latin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TAIN FIRE TO PREVENT SPREAD--CLOSE DOORS, WINDOWS, SHUT OFF EXHAUST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ae00"/>
                </a:solidFill>
                <a:uFillTx/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TINGUISH THE FLAMES--PUT THE FIRE OU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856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882720" y="4084200"/>
            <a:ext cx="4851360" cy="3868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120" bIns="4212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DECIDE TO FIGHT FIRE, USE “P.A.S.S.” ACRONYM TO REMEMBER HOW TO OPERATE THE EXTINGUISHER PROPERL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6856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882720" y="3993840"/>
            <a:ext cx="4851360" cy="42987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120" bIns="4212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“HOW DO I DECIDE TO FIGHT THE FIRE OR EVACUATE?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ONE OR MORE OF THE ABOVE CRITERIA AREN’T MET, BUG OUT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YOU DO USE AN EXTINGUISHER, PLACE IT OUT OF SERVICE AND NOTIFY THE APPROPRIATE PERSON(S) SO IT CAN BE RECHARGED OR REPLAC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6856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882720" y="4084200"/>
            <a:ext cx="4851360" cy="3868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120" bIns="4212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LY REVIEW COMBUSTION PROCESS, FIRE CLASSES, TYPES OF EXTINGUISHERS, AND THEIR LIMITATIO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REMIND STUDENTS OF HANDOUT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 “R.A.C.E”, “P.A.S.S.” ACRONY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FOR QUES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IND STUDENTS TO SIGN ROST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6856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82720" y="4084200"/>
            <a:ext cx="4851360" cy="3868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120" bIns="4212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EFLY REVIEW OBJECTIV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856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367920" y="4084560"/>
            <a:ext cx="5807160" cy="42991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120" bIns="4212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“WHAT FOUR INGREDIENTS ARE NEEDED TO CREATE A FIRE?” AND SHOW SLID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 HOW IT SHOWS “FIRE TETRAHEDRON”--FOUR-SIDED FIGURE SHOWING RELATIONSHIP BETWEEN COMPONENTS OF COMBUSTION PROCESS (UPDATE FROM OLD “FIRE TRIANGLE”--ADDS CHEMICAL CHAIN REACTION AS FOURTH ELEMENT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AIN THAT EACH COMPONENT IS EQUALLY IMPORTA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“HOW DO YOU PUT OUT A FIRE?” (REMOVE ONE OR MORE OF THE ABOVE ELEMENTS).  EXPLAIN HOW EXTINGUISHERS WE USE ARE ALL DESIGNED TO DO TH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6856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38080" y="4299120"/>
            <a:ext cx="4851360" cy="3458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120" bIns="4212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 THE FIVE FIRE CLASSES ON THIS AND NEXT SLID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OUT OLD AND NEW FIRE SYMBOLS--USED TO MARK EXTINGUISHERS FOR SUITABILITY FOR USE ON FIRE CLAS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DECIDE IF EXTINGUISHER IS APPROPRIATE, MATCH SYMBOL TO TYPE OF FIRE BEING ENCOUNTER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856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882720" y="4084200"/>
            <a:ext cx="4851360" cy="3868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120" bIns="4212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ADDITION TO NFPA 10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FOR USE WITH HOTTER BURNING NON-SATURATED FAT FI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8560" y="650880"/>
            <a:ext cx="4281480" cy="32115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882720" y="4084200"/>
            <a:ext cx="4851360" cy="3868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2120" bIns="42120" anchor="t">
            <a:noAutofit/>
          </a:bodyPr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OUT DIFFERENT COMPONENTS OF PORTABLE FIRE EXTINGUIS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INT OUT THAT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XTINGUISHER IS UNIQUE IN THAT IT DOES NOT HAVE PRESSURE GAU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953F-7A90-4D0B-932C-70F158BFD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7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679920"/>
            <a:ext cx="67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14A6-A26B-435F-83E7-337316CCCB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0880" y="137124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67992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0880" y="367992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31093-73A7-4F77-9358-CC6F90429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183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78640" y="1371240"/>
            <a:ext cx="2183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71840" y="1371240"/>
            <a:ext cx="2183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679920"/>
            <a:ext cx="2183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78640" y="3679920"/>
            <a:ext cx="2183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71840" y="3679920"/>
            <a:ext cx="2183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DA82-5EA9-44B0-BB8F-3A7B577460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a751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309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60880" y="1371240"/>
            <a:ext cx="3309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aa751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0880" y="1371240"/>
            <a:ext cx="3309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67992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a751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D4A9E-C934-4903-8F5A-3A4AFD6F9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309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0880" y="137124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60880" y="367992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0880" y="137124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679920"/>
            <a:ext cx="67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7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679920"/>
            <a:ext cx="67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0880" y="137124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67992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60880" y="367992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183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78640" y="1371240"/>
            <a:ext cx="2183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1840" y="1371240"/>
            <a:ext cx="2183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679920"/>
            <a:ext cx="2183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78640" y="3679920"/>
            <a:ext cx="2183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271840" y="3679920"/>
            <a:ext cx="2183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8ADE2-DBC0-49C3-AB0D-F6AD88E27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309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0880" y="1371240"/>
            <a:ext cx="3309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DC7EA-1494-4F8D-B810-C47EC8DC17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983E5-8788-470B-8608-C55C1D664B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aa751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B684D-A829-46F4-856E-D2C947385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0880" y="1371240"/>
            <a:ext cx="3309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67992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FD5E-5A3A-4C71-BA86-9ED72432BE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309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0880" y="137124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0880" y="367992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DC03-6DBD-482B-9E53-2E65C6284B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0880" y="1371240"/>
            <a:ext cx="3309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679920"/>
            <a:ext cx="678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0497A-862D-4A2C-A3E1-90A27E652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2560" cy="914400"/>
          </a:xfrm>
          <a:prstGeom prst="rect">
            <a:avLst/>
          </a:prstGeom>
          <a:solidFill>
            <a:srgbClr val="161d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3712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lvl="1" marL="574560" indent="-18864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lvl="2" marL="952560" indent="-18756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lvl="3" marL="1330200" indent="-1825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lvl="4" marL="1709640" indent="-1825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lvl="5" marL="1709640" indent="-182520">
              <a:spcBef>
                <a:spcPts val="550"/>
              </a:spcBef>
              <a:buClr>
                <a:srgbClr val="161d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lvl="6" marL="1709640" indent="-182520">
              <a:spcBef>
                <a:spcPts val="550"/>
              </a:spcBef>
              <a:buClr>
                <a:srgbClr val="161d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solidFill>
            <a:srgbClr val="161d4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543800" y="5810400"/>
            <a:ext cx="1152360" cy="51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440" y="6133680"/>
            <a:ext cx="22860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1822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D97B-52F6-4894-B6B7-974E844CA685}" type="slidenum">
              <a:rPr b="0" lang="en-GB" sz="1000" spc="-1" strike="noStrike">
                <a:solidFill>
                  <a:srgbClr val="18224e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2860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0" t="39385" r="0" b="14475"/>
          <a:stretch/>
        </p:blipFill>
        <p:spPr>
          <a:xfrm>
            <a:off x="6019920" y="0"/>
            <a:ext cx="3124080" cy="9144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981080" y="2465280"/>
            <a:ext cx="2159280" cy="96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rcRect l="0" t="25720" r="0" b="35706"/>
          <a:stretch/>
        </p:blipFill>
        <p:spPr>
          <a:xfrm>
            <a:off x="2819520" y="0"/>
            <a:ext cx="335268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rcRect l="0" t="36079" r="0" b="43339"/>
          <a:stretch/>
        </p:blipFill>
        <p:spPr>
          <a:xfrm>
            <a:off x="0" y="0"/>
            <a:ext cx="2984400" cy="914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a7516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aa7516"/>
              </a:solidFill>
              <a:latin typeface="Arial"/>
            </a:endParaRPr>
          </a:p>
          <a:p>
            <a:pPr lvl="1" marL="38592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lvl="2" marL="765000" algn="ctr">
              <a:spcBef>
                <a:spcPts val="451"/>
              </a:spcBef>
              <a:buClr>
                <a:srgbClr val="18224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224e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18224e"/>
              </a:solidFill>
              <a:latin typeface="Arial"/>
            </a:endParaRPr>
          </a:p>
          <a:p>
            <a:pPr lvl="3" marL="1147680" algn="ctr">
              <a:buClr>
                <a:srgbClr val="18224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lvl="4" marL="1527120" algn="ctr">
              <a:buClr>
                <a:srgbClr val="18224e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lvl="5" marL="1527120">
              <a:spcBef>
                <a:spcPts val="499"/>
              </a:spcBef>
              <a:buClr>
                <a:srgbClr val="161d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lvl="6" marL="1527120">
              <a:spcBef>
                <a:spcPts val="499"/>
              </a:spcBef>
              <a:buClr>
                <a:srgbClr val="161d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halonfireextinguisher.net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63880" y="1458720"/>
            <a:ext cx="6627600" cy="110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Arial"/>
              </a:rPr>
              <a:t>EXTINGUISH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3429000"/>
            <a:ext cx="1054080" cy="26668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0" y="3809880"/>
            <a:ext cx="6629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c2e25"/>
                </a:solidFill>
                <a:latin typeface="Tahoma"/>
              </a:rPr>
              <a:t>Fire Safety &amp; </a:t>
            </a:r>
            <a:br>
              <a:rPr sz="4000"/>
            </a:br>
            <a:r>
              <a:rPr b="1" lang="en-US" sz="4000" spc="-1" strike="noStrike">
                <a:solidFill>
                  <a:srgbClr val="ac2e25"/>
                </a:solidFill>
                <a:latin typeface="Tahoma"/>
              </a:rPr>
              <a:t>Fire Extinguisher Use</a:t>
            </a:r>
            <a:endParaRPr b="0" lang="en-US" sz="4000" spc="-1" strike="noStrike">
              <a:solidFill>
                <a:srgbClr val="161d4e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152280" y="1371600"/>
            <a:ext cx="8812080" cy="3886200"/>
            <a:chOff x="152280" y="1371600"/>
            <a:chExt cx="8812080" cy="3886200"/>
          </a:xfrm>
        </p:grpSpPr>
        <p:sp>
          <p:nvSpPr>
            <p:cNvPr id="170" name=""/>
            <p:cNvSpPr/>
            <p:nvPr/>
          </p:nvSpPr>
          <p:spPr>
            <a:xfrm>
              <a:off x="6027120" y="3962520"/>
              <a:ext cx="29372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89520" y="3962520"/>
              <a:ext cx="29372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280" y="3962520"/>
              <a:ext cx="29372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7120" y="2666880"/>
              <a:ext cx="293724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9520" y="2666880"/>
              <a:ext cx="293724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2280" y="2666880"/>
              <a:ext cx="293724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27120" y="1371600"/>
              <a:ext cx="29372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89520" y="1371600"/>
              <a:ext cx="29372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2280" y="1371600"/>
              <a:ext cx="293724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2280" y="1371600"/>
              <a:ext cx="8812080" cy="0"/>
            </a:xfrm>
            <a:prstGeom prst="line">
              <a:avLst/>
            </a:prstGeom>
            <a:ln cap="sq" w="28440">
              <a:solidFill>
                <a:srgbClr val="161d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2280" y="2666880"/>
              <a:ext cx="8812080" cy="0"/>
            </a:xfrm>
            <a:prstGeom prst="line">
              <a:avLst/>
            </a:prstGeom>
            <a:ln w="12600">
              <a:solidFill>
                <a:srgbClr val="161d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2280" y="3962520"/>
              <a:ext cx="8812080" cy="0"/>
            </a:xfrm>
            <a:prstGeom prst="line">
              <a:avLst/>
            </a:prstGeom>
            <a:ln w="12600">
              <a:solidFill>
                <a:srgbClr val="161d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280" y="5257800"/>
              <a:ext cx="8812080" cy="0"/>
            </a:xfrm>
            <a:prstGeom prst="line">
              <a:avLst/>
            </a:prstGeom>
            <a:ln cap="sq" w="28440">
              <a:solidFill>
                <a:srgbClr val="161d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2280" y="1371600"/>
              <a:ext cx="0" cy="3886200"/>
            </a:xfrm>
            <a:prstGeom prst="line">
              <a:avLst/>
            </a:prstGeom>
            <a:ln cap="sq" w="28440">
              <a:solidFill>
                <a:srgbClr val="161d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089520" y="1371600"/>
              <a:ext cx="0" cy="3886200"/>
            </a:xfrm>
            <a:prstGeom prst="line">
              <a:avLst/>
            </a:prstGeom>
            <a:ln w="12600">
              <a:solidFill>
                <a:srgbClr val="161d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027120" y="1371600"/>
              <a:ext cx="0" cy="3886200"/>
            </a:xfrm>
            <a:prstGeom prst="line">
              <a:avLst/>
            </a:prstGeom>
            <a:ln w="12600">
              <a:solidFill>
                <a:srgbClr val="161d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964360" y="1371600"/>
              <a:ext cx="0" cy="3886200"/>
            </a:xfrm>
            <a:prstGeom prst="line">
              <a:avLst/>
            </a:prstGeom>
            <a:ln cap="sq" w="28440">
              <a:solidFill>
                <a:srgbClr val="161d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re Extinguisher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1120" y="927000"/>
            <a:ext cx="2916360" cy="444600"/>
          </a:xfrm>
          <a:prstGeom prst="rect">
            <a:avLst/>
          </a:prstGeom>
          <a:gradFill rotWithShape="0">
            <a:gsLst>
              <a:gs pos="0">
                <a:srgbClr val="f3db22"/>
              </a:gs>
              <a:gs pos="100000">
                <a:srgbClr val="f3d80a"/>
              </a:gs>
            </a:gsLst>
            <a:lin ang="5400000"/>
          </a:gradFill>
          <a:ln w="12600">
            <a:solidFill>
              <a:srgbClr val="ac2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75120" y="927000"/>
            <a:ext cx="2963880" cy="444600"/>
          </a:xfrm>
          <a:prstGeom prst="rect">
            <a:avLst/>
          </a:prstGeom>
          <a:gradFill rotWithShape="0">
            <a:gsLst>
              <a:gs pos="0">
                <a:srgbClr val="f3db22"/>
              </a:gs>
              <a:gs pos="100000">
                <a:srgbClr val="f3d80a"/>
              </a:gs>
            </a:gsLst>
            <a:lin ang="5400000"/>
          </a:gradFill>
          <a:ln w="12600">
            <a:solidFill>
              <a:srgbClr val="ac2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53040" y="927000"/>
            <a:ext cx="2916360" cy="444600"/>
          </a:xfrm>
          <a:prstGeom prst="rect">
            <a:avLst/>
          </a:prstGeom>
          <a:gradFill rotWithShape="0">
            <a:gsLst>
              <a:gs pos="0">
                <a:srgbClr val="f3db22"/>
              </a:gs>
              <a:gs pos="100000">
                <a:srgbClr val="f3d80a"/>
              </a:gs>
            </a:gsLst>
            <a:lin ang="5400000"/>
          </a:gradFill>
          <a:ln w="12600">
            <a:solidFill>
              <a:srgbClr val="ac2e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9600" y="977760"/>
            <a:ext cx="259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c2e25"/>
                </a:solidFill>
                <a:latin typeface="Tahoma"/>
              </a:rPr>
              <a:t>EXTINGUISHER TYPE</a:t>
            </a:r>
            <a:endParaRPr b="0" lang="en-US" sz="20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52720" y="977760"/>
            <a:ext cx="140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c2e25"/>
                </a:solidFill>
                <a:latin typeface="Tahoma"/>
              </a:rPr>
              <a:t>WORKS BY</a:t>
            </a:r>
            <a:endParaRPr b="0" lang="en-US" sz="20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39880" y="977760"/>
            <a:ext cx="253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c2e25"/>
                </a:solidFill>
                <a:latin typeface="Tahoma"/>
              </a:rPr>
              <a:t>EFFECTIVE AGAINST</a:t>
            </a:r>
            <a:endParaRPr b="0" lang="en-US" sz="20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9560" y="1676520"/>
            <a:ext cx="22942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2e25"/>
                </a:solidFill>
                <a:latin typeface="Tahoma"/>
              </a:rPr>
              <a:t>PRESSURIZED WATER</a:t>
            </a:r>
            <a:endParaRPr b="0" lang="en-US" sz="20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280" y="2971800"/>
            <a:ext cx="2293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2e25"/>
                </a:solidFill>
                <a:latin typeface="Tahoma"/>
              </a:rPr>
              <a:t>CARBON DIOXIDE</a:t>
            </a:r>
            <a:endParaRPr b="0" lang="en-US" sz="20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4254480"/>
            <a:ext cx="2293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2e25"/>
                </a:solidFill>
                <a:latin typeface="Tahoma"/>
              </a:rPr>
              <a:t>MULTIPURPOSE DRY CHEMICAL</a:t>
            </a:r>
            <a:endParaRPr b="0" lang="en-US" sz="20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09920" y="1828800"/>
            <a:ext cx="22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2e25"/>
                </a:solidFill>
                <a:latin typeface="Tahoma"/>
              </a:rPr>
              <a:t>COOLING</a:t>
            </a:r>
            <a:endParaRPr b="0" lang="en-US" sz="20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1080" y="3111480"/>
            <a:ext cx="22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2e25"/>
                </a:solidFill>
                <a:latin typeface="Tahoma"/>
              </a:rPr>
              <a:t>SMOTHERING</a:t>
            </a:r>
            <a:endParaRPr b="0" lang="en-US" sz="20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409920" y="4406760"/>
            <a:ext cx="229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2e25"/>
                </a:solidFill>
                <a:latin typeface="Tahoma"/>
              </a:rPr>
              <a:t>SMOTHERING</a:t>
            </a:r>
            <a:endParaRPr b="0" lang="en-US" sz="2000" spc="-1" strike="noStrike">
              <a:solidFill>
                <a:srgbClr val="161d4e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31080" y="4343400"/>
            <a:ext cx="903240" cy="5857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7010280" y="4343400"/>
            <a:ext cx="885960" cy="593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8001000" y="4343400"/>
            <a:ext cx="906480" cy="6033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6429240" y="3048120"/>
            <a:ext cx="885960" cy="593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467480" y="3054240"/>
            <a:ext cx="906480" cy="603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6"/>
          <a:stretch/>
        </p:blipFill>
        <p:spPr>
          <a:xfrm>
            <a:off x="6858000" y="1776240"/>
            <a:ext cx="903240" cy="586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re Emergency Respo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88840" y="1101600"/>
            <a:ext cx="914400" cy="917640"/>
          </a:xfrm>
          <a:custGeom>
            <a:avLst/>
            <a:gdLst>
              <a:gd name="textAreaLeft" fmla="*/ 26280 w 914400"/>
              <a:gd name="textAreaRight" fmla="*/ 888120 w 914400"/>
              <a:gd name="textAreaTop" fmla="*/ 26280 h 917640"/>
              <a:gd name="textAreaBottom" fmla="*/ 891360 h 917640"/>
            </a:gdLst>
            <a:ahLst/>
            <a:rect l="textAreaLeft" t="textAreaTop" r="textAreaRight" b="textAreaBottom"/>
            <a:pathLst>
              <a:path w="21600" h="21677">
                <a:moveTo>
                  <a:pt x="2124" y="0"/>
                </a:moveTo>
                <a:arcTo wR="2124" hR="2124" stAng="16200000" swAng="-5400000"/>
                <a:lnTo>
                  <a:pt x="0" y="19553"/>
                </a:lnTo>
                <a:arcTo wR="2124" hR="2124" stAng="10800000" swAng="-5400000"/>
                <a:lnTo>
                  <a:pt x="19476" y="21677"/>
                </a:lnTo>
                <a:arcTo wR="2124" hR="2124" stAng="5400000" swAng="-5400000"/>
                <a:lnTo>
                  <a:pt x="21600" y="2124"/>
                </a:lnTo>
                <a:arcTo wR="2124" hR="2124" stAng="0" swAng="-5400000"/>
                <a:close/>
              </a:path>
            </a:pathLst>
          </a:custGeom>
          <a:gradFill rotWithShape="0">
            <a:gsLst>
              <a:gs pos="0">
                <a:srgbClr val="f3d80a"/>
              </a:gs>
              <a:gs pos="50000">
                <a:srgbClr val="f6e66b"/>
              </a:gs>
              <a:gs pos="100000">
                <a:srgbClr val="f3d80a"/>
              </a:gs>
            </a:gsLst>
            <a:lin ang="5400000"/>
          </a:gradFill>
          <a:ln w="507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143000"/>
            <a:ext cx="7617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ahoma"/>
              </a:rPr>
              <a:t>R</a:t>
            </a:r>
            <a:endParaRPr b="0" lang="en-US" sz="4800" spc="-1" strike="noStrike">
              <a:solidFill>
                <a:srgbClr val="161d4e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791320" y="1376280"/>
            <a:ext cx="1376280" cy="1595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019920" y="3581280"/>
            <a:ext cx="955440" cy="28209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286000" y="1143000"/>
            <a:ext cx="293220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7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ac2e25"/>
                </a:solidFill>
                <a:uFillTx/>
                <a:latin typeface="Tahoma"/>
              </a:rPr>
              <a:t>R</a:t>
            </a:r>
            <a:r>
              <a:rPr b="1" i="1" lang="en-US" sz="4000" spc="-1" strike="noStrike">
                <a:solidFill>
                  <a:srgbClr val="161d4e"/>
                </a:solidFill>
                <a:latin typeface="Tahoma"/>
              </a:rPr>
              <a:t>escue</a:t>
            </a:r>
            <a:endParaRPr b="0" lang="en-US" sz="4000" spc="-1" strike="noStrike">
              <a:solidFill>
                <a:srgbClr val="161d4e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ac2e25"/>
                </a:solidFill>
                <a:uFillTx/>
                <a:latin typeface="Tahoma"/>
              </a:rPr>
              <a:t>A</a:t>
            </a:r>
            <a:r>
              <a:rPr b="1" i="1" lang="en-US" sz="4000" spc="-1" strike="noStrike">
                <a:solidFill>
                  <a:srgbClr val="161d4e"/>
                </a:solidFill>
                <a:latin typeface="Tahoma"/>
              </a:rPr>
              <a:t>larm</a:t>
            </a:r>
            <a:endParaRPr b="0" lang="en-US" sz="4000" spc="-1" strike="noStrike">
              <a:solidFill>
                <a:srgbClr val="161d4e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ac2e25"/>
                </a:solidFill>
                <a:uFillTx/>
                <a:latin typeface="Tahoma"/>
              </a:rPr>
              <a:t>C</a:t>
            </a:r>
            <a:r>
              <a:rPr b="1" i="1" lang="en-US" sz="4000" spc="-1" strike="noStrike">
                <a:solidFill>
                  <a:srgbClr val="161d4e"/>
                </a:solidFill>
                <a:latin typeface="Tahoma"/>
              </a:rPr>
              <a:t>ontain</a:t>
            </a:r>
            <a:endParaRPr b="0" lang="en-US" sz="4000" spc="-1" strike="noStrike">
              <a:solidFill>
                <a:srgbClr val="161d4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ac2e25"/>
                </a:solidFill>
                <a:uFillTx/>
                <a:latin typeface="Tahoma"/>
              </a:rPr>
              <a:t>E</a:t>
            </a:r>
            <a:r>
              <a:rPr b="1" i="1" lang="en-US" sz="4000" spc="-1" strike="noStrike">
                <a:solidFill>
                  <a:srgbClr val="161d4e"/>
                </a:solidFill>
                <a:latin typeface="Tahoma"/>
              </a:rPr>
              <a:t>xtinguish</a:t>
            </a:r>
            <a:endParaRPr b="0" lang="en-US" sz="40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2590920"/>
            <a:ext cx="914400" cy="915840"/>
          </a:xfrm>
          <a:custGeom>
            <a:avLst/>
            <a:gdLst>
              <a:gd name="textAreaLeft" fmla="*/ 26280 w 914400"/>
              <a:gd name="textAreaRight" fmla="*/ 888120 w 914400"/>
              <a:gd name="textAreaTop" fmla="*/ 26280 h 915840"/>
              <a:gd name="textAreaBottom" fmla="*/ 889560 h 915840"/>
            </a:gdLst>
            <a:ahLst/>
            <a:rect l="textAreaLeft" t="textAreaTop" r="textAreaRight" b="textAreaBottom"/>
            <a:pathLst>
              <a:path w="21600" h="21634">
                <a:moveTo>
                  <a:pt x="2124" y="0"/>
                </a:moveTo>
                <a:arcTo wR="2124" hR="2124" stAng="16200000" swAng="-5400000"/>
                <a:lnTo>
                  <a:pt x="0" y="19510"/>
                </a:lnTo>
                <a:arcTo wR="2124" hR="2124" stAng="10800000" swAng="-5400000"/>
                <a:lnTo>
                  <a:pt x="19476" y="21634"/>
                </a:lnTo>
                <a:arcTo wR="2124" hR="2124" stAng="5400000" swAng="-5400000"/>
                <a:lnTo>
                  <a:pt x="21600" y="2124"/>
                </a:lnTo>
                <a:arcTo wR="2124" hR="2124" stAng="0" swAng="-5400000"/>
                <a:close/>
              </a:path>
            </a:pathLst>
          </a:custGeom>
          <a:gradFill rotWithShape="0">
            <a:gsLst>
              <a:gs pos="0">
                <a:srgbClr val="f3d80a"/>
              </a:gs>
              <a:gs pos="50000">
                <a:srgbClr val="f6e66b"/>
              </a:gs>
              <a:gs pos="100000">
                <a:srgbClr val="f3d80a"/>
              </a:gs>
            </a:gsLst>
            <a:lin ang="5400000"/>
          </a:gradFill>
          <a:ln w="507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83960" y="2593800"/>
            <a:ext cx="564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4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038480"/>
            <a:ext cx="914400" cy="916200"/>
          </a:xfrm>
          <a:custGeom>
            <a:avLst/>
            <a:gdLst>
              <a:gd name="textAreaLeft" fmla="*/ 26280 w 914400"/>
              <a:gd name="textAreaRight" fmla="*/ 888120 w 914400"/>
              <a:gd name="textAreaTop" fmla="*/ 26280 h 916200"/>
              <a:gd name="textAreaBottom" fmla="*/ 889920 h 916200"/>
            </a:gdLst>
            <a:ahLst/>
            <a:rect l="textAreaLeft" t="textAreaTop" r="textAreaRight" b="textAreaBottom"/>
            <a:pathLst>
              <a:path w="21600" h="21643">
                <a:moveTo>
                  <a:pt x="2124" y="0"/>
                </a:moveTo>
                <a:arcTo wR="2124" hR="2124" stAng="16200000" swAng="-5400000"/>
                <a:lnTo>
                  <a:pt x="0" y="19519"/>
                </a:lnTo>
                <a:arcTo wR="2124" hR="2124" stAng="10800000" swAng="-5400000"/>
                <a:lnTo>
                  <a:pt x="19476" y="21643"/>
                </a:lnTo>
                <a:arcTo wR="2124" hR="2124" stAng="5400000" swAng="-5400000"/>
                <a:lnTo>
                  <a:pt x="21600" y="2124"/>
                </a:lnTo>
                <a:arcTo wR="2124" hR="2124" stAng="0" swAng="-5400000"/>
                <a:close/>
              </a:path>
            </a:pathLst>
          </a:custGeom>
          <a:gradFill rotWithShape="0">
            <a:gsLst>
              <a:gs pos="0">
                <a:srgbClr val="f3d80a"/>
              </a:gs>
              <a:gs pos="50000">
                <a:srgbClr val="f6e66b"/>
              </a:gs>
              <a:gs pos="100000">
                <a:srgbClr val="f3d80a"/>
              </a:gs>
            </a:gsLst>
            <a:lin ang="5400000"/>
          </a:gradFill>
          <a:ln w="507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28880" y="4038480"/>
            <a:ext cx="5547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ahoma"/>
              </a:rPr>
              <a:t>C</a:t>
            </a:r>
            <a:endParaRPr b="0" lang="en-US" sz="4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5562720"/>
            <a:ext cx="914400" cy="915840"/>
          </a:xfrm>
          <a:custGeom>
            <a:avLst/>
            <a:gdLst>
              <a:gd name="textAreaLeft" fmla="*/ 26280 w 914400"/>
              <a:gd name="textAreaRight" fmla="*/ 888120 w 914400"/>
              <a:gd name="textAreaTop" fmla="*/ 26280 h 915840"/>
              <a:gd name="textAreaBottom" fmla="*/ 889560 h 915840"/>
            </a:gdLst>
            <a:ahLst/>
            <a:rect l="textAreaLeft" t="textAreaTop" r="textAreaRight" b="textAreaBottom"/>
            <a:pathLst>
              <a:path w="21600" h="21634">
                <a:moveTo>
                  <a:pt x="2124" y="0"/>
                </a:moveTo>
                <a:arcTo wR="2124" hR="2124" stAng="16200000" swAng="-5400000"/>
                <a:lnTo>
                  <a:pt x="0" y="19510"/>
                </a:lnTo>
                <a:arcTo wR="2124" hR="2124" stAng="10800000" swAng="-5400000"/>
                <a:lnTo>
                  <a:pt x="19476" y="21634"/>
                </a:lnTo>
                <a:arcTo wR="2124" hR="2124" stAng="5400000" swAng="-5400000"/>
                <a:lnTo>
                  <a:pt x="21600" y="2124"/>
                </a:lnTo>
                <a:arcTo wR="2124" hR="2124" stAng="0" swAng="-5400000"/>
                <a:close/>
              </a:path>
            </a:pathLst>
          </a:custGeom>
          <a:gradFill rotWithShape="0">
            <a:gsLst>
              <a:gs pos="0">
                <a:srgbClr val="f3d80a"/>
              </a:gs>
              <a:gs pos="50000">
                <a:srgbClr val="f6e66b"/>
              </a:gs>
              <a:gs pos="100000">
                <a:srgbClr val="f3d80a"/>
              </a:gs>
            </a:gsLst>
            <a:lin ang="5400000"/>
          </a:gradFill>
          <a:ln w="507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562720"/>
            <a:ext cx="76176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Tahoma"/>
              </a:rPr>
              <a:t>E</a:t>
            </a:r>
            <a:endParaRPr b="0" lang="en-US" sz="5400" spc="-1" strike="noStrike">
              <a:solidFill>
                <a:srgbClr val="161d4e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ghting the F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819520" cy="2197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712880" y="1219320"/>
            <a:ext cx="4611600" cy="48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Aft>
                <a:spcPts val="55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ac2e25"/>
                </a:solidFill>
                <a:uFillTx/>
                <a:latin typeface="Tahoma"/>
              </a:rPr>
              <a:t>P</a:t>
            </a:r>
            <a:r>
              <a:rPr b="1" i="1" lang="en-US" sz="3400" spc="-1" strike="noStrike">
                <a:solidFill>
                  <a:srgbClr val="0000ff"/>
                </a:solidFill>
                <a:latin typeface="Tahoma"/>
              </a:rPr>
              <a:t>ull the pin</a:t>
            </a:r>
            <a:endParaRPr b="0" lang="en-US" sz="3400" spc="-1" strike="noStrike">
              <a:solidFill>
                <a:srgbClr val="161d4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ac2e25"/>
                </a:solidFill>
                <a:uFillTx/>
                <a:latin typeface="Tahoma"/>
              </a:rPr>
              <a:t>A</a:t>
            </a:r>
            <a:r>
              <a:rPr b="1" i="1" lang="en-US" sz="3400" spc="-1" strike="noStrike">
                <a:solidFill>
                  <a:srgbClr val="0000ff"/>
                </a:solidFill>
                <a:latin typeface="Tahoma"/>
              </a:rPr>
              <a:t>im low at</a:t>
            </a:r>
            <a:endParaRPr b="0" lang="en-US" sz="3400" spc="-1" strike="noStrike">
              <a:solidFill>
                <a:srgbClr val="161d4e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8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ff"/>
                </a:solidFill>
                <a:latin typeface="Tahoma"/>
              </a:rPr>
              <a:t>the base of flames</a:t>
            </a:r>
            <a:endParaRPr b="0" lang="en-US" sz="3400" spc="-1" strike="noStrike">
              <a:solidFill>
                <a:srgbClr val="161d4e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ac2e25"/>
                </a:solidFill>
                <a:uFillTx/>
                <a:latin typeface="Tahoma"/>
              </a:rPr>
              <a:t>S</a:t>
            </a:r>
            <a:r>
              <a:rPr b="1" i="1" lang="en-US" sz="3400" spc="-1" strike="noStrike">
                <a:solidFill>
                  <a:srgbClr val="0000ff"/>
                </a:solidFill>
                <a:latin typeface="Tahoma"/>
              </a:rPr>
              <a:t>queeze the handle</a:t>
            </a:r>
            <a:endParaRPr b="0" lang="en-US" sz="3400" spc="-1" strike="noStrike">
              <a:solidFill>
                <a:srgbClr val="161d4e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 u="sng">
                <a:solidFill>
                  <a:srgbClr val="ac2e25"/>
                </a:solidFill>
                <a:uFillTx/>
                <a:latin typeface="Tahoma"/>
              </a:rPr>
              <a:t>S</a:t>
            </a:r>
            <a:r>
              <a:rPr b="1" i="1" lang="en-US" sz="3400" spc="-1" strike="noStrike">
                <a:solidFill>
                  <a:srgbClr val="0000ff"/>
                </a:solidFill>
                <a:latin typeface="Tahoma"/>
              </a:rPr>
              <a:t>weep side to side</a:t>
            </a:r>
            <a:endParaRPr b="0" lang="en-US" sz="3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1143000"/>
            <a:ext cx="914400" cy="915840"/>
          </a:xfrm>
          <a:custGeom>
            <a:avLst/>
            <a:gdLst>
              <a:gd name="textAreaLeft" fmla="*/ 26280 w 914400"/>
              <a:gd name="textAreaRight" fmla="*/ 888120 w 914400"/>
              <a:gd name="textAreaTop" fmla="*/ 26280 h 915840"/>
              <a:gd name="textAreaBottom" fmla="*/ 889560 h 915840"/>
            </a:gdLst>
            <a:ahLst/>
            <a:rect l="textAreaLeft" t="textAreaTop" r="textAreaRight" b="textAreaBottom"/>
            <a:pathLst>
              <a:path w="21600" h="21634">
                <a:moveTo>
                  <a:pt x="2124" y="0"/>
                </a:moveTo>
                <a:arcTo wR="2124" hR="2124" stAng="16200000" swAng="-5400000"/>
                <a:lnTo>
                  <a:pt x="0" y="19510"/>
                </a:lnTo>
                <a:arcTo wR="2124" hR="2124" stAng="10800000" swAng="-5400000"/>
                <a:lnTo>
                  <a:pt x="19476" y="21634"/>
                </a:lnTo>
                <a:arcTo wR="2124" hR="2124" stAng="5400000" swAng="-5400000"/>
                <a:lnTo>
                  <a:pt x="21600" y="2124"/>
                </a:lnTo>
                <a:arcTo wR="2124" hR="2124" stAng="0" swAng="-5400000"/>
                <a:close/>
              </a:path>
            </a:pathLst>
          </a:custGeom>
          <a:gradFill rotWithShape="0">
            <a:gsLst>
              <a:gs pos="0">
                <a:srgbClr val="f3d80a"/>
              </a:gs>
              <a:gs pos="50000">
                <a:srgbClr val="f6e66b"/>
              </a:gs>
              <a:gs pos="100000">
                <a:srgbClr val="f3d80a"/>
              </a:gs>
            </a:gsLst>
            <a:lin ang="5400000"/>
          </a:gradFill>
          <a:ln w="507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5640" y="1160640"/>
            <a:ext cx="5533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ahoma"/>
              </a:rPr>
              <a:t>P</a:t>
            </a:r>
            <a:endParaRPr b="0" lang="en-US" sz="4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514600"/>
            <a:ext cx="914400" cy="915840"/>
          </a:xfrm>
          <a:custGeom>
            <a:avLst/>
            <a:gdLst>
              <a:gd name="textAreaLeft" fmla="*/ 26280 w 914400"/>
              <a:gd name="textAreaRight" fmla="*/ 888120 w 914400"/>
              <a:gd name="textAreaTop" fmla="*/ 26280 h 915840"/>
              <a:gd name="textAreaBottom" fmla="*/ 889560 h 915840"/>
            </a:gdLst>
            <a:ahLst/>
            <a:rect l="textAreaLeft" t="textAreaTop" r="textAreaRight" b="textAreaBottom"/>
            <a:pathLst>
              <a:path w="21600" h="21634">
                <a:moveTo>
                  <a:pt x="2124" y="0"/>
                </a:moveTo>
                <a:arcTo wR="2124" hR="2124" stAng="16200000" swAng="-5400000"/>
                <a:lnTo>
                  <a:pt x="0" y="19510"/>
                </a:lnTo>
                <a:arcTo wR="2124" hR="2124" stAng="10800000" swAng="-5400000"/>
                <a:lnTo>
                  <a:pt x="19476" y="21634"/>
                </a:lnTo>
                <a:arcTo wR="2124" hR="2124" stAng="5400000" swAng="-5400000"/>
                <a:lnTo>
                  <a:pt x="21600" y="2124"/>
                </a:lnTo>
                <a:arcTo wR="2124" hR="2124" stAng="0" swAng="-5400000"/>
                <a:close/>
              </a:path>
            </a:pathLst>
          </a:custGeom>
          <a:gradFill rotWithShape="0">
            <a:gsLst>
              <a:gs pos="0">
                <a:srgbClr val="f3d80a"/>
              </a:gs>
              <a:gs pos="50000">
                <a:srgbClr val="f6e66b"/>
              </a:gs>
              <a:gs pos="100000">
                <a:srgbClr val="f3d80a"/>
              </a:gs>
            </a:gsLst>
            <a:lin ang="5400000"/>
          </a:gradFill>
          <a:ln w="507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1600" y="2590920"/>
            <a:ext cx="56412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ahoma"/>
              </a:rPr>
              <a:t>A</a:t>
            </a:r>
            <a:endParaRPr b="0" lang="en-US" sz="4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886200"/>
            <a:ext cx="914400" cy="915840"/>
          </a:xfrm>
          <a:custGeom>
            <a:avLst/>
            <a:gdLst>
              <a:gd name="textAreaLeft" fmla="*/ 26280 w 914400"/>
              <a:gd name="textAreaRight" fmla="*/ 888120 w 914400"/>
              <a:gd name="textAreaTop" fmla="*/ 26280 h 915840"/>
              <a:gd name="textAreaBottom" fmla="*/ 889560 h 915840"/>
            </a:gdLst>
            <a:ahLst/>
            <a:rect l="textAreaLeft" t="textAreaTop" r="textAreaRight" b="textAreaBottom"/>
            <a:pathLst>
              <a:path w="21600" h="21634">
                <a:moveTo>
                  <a:pt x="2124" y="0"/>
                </a:moveTo>
                <a:arcTo wR="2124" hR="2124" stAng="16200000" swAng="-5400000"/>
                <a:lnTo>
                  <a:pt x="0" y="19510"/>
                </a:lnTo>
                <a:arcTo wR="2124" hR="2124" stAng="10800000" swAng="-5400000"/>
                <a:lnTo>
                  <a:pt x="19476" y="21634"/>
                </a:lnTo>
                <a:arcTo wR="2124" hR="2124" stAng="5400000" swAng="-5400000"/>
                <a:lnTo>
                  <a:pt x="21600" y="2124"/>
                </a:lnTo>
                <a:arcTo wR="2124" hR="2124" stAng="0" swAng="-5400000"/>
                <a:close/>
              </a:path>
            </a:pathLst>
          </a:custGeom>
          <a:gradFill rotWithShape="0">
            <a:gsLst>
              <a:gs pos="0">
                <a:srgbClr val="f3d80a"/>
              </a:gs>
              <a:gs pos="50000">
                <a:srgbClr val="f6e66b"/>
              </a:gs>
              <a:gs pos="100000">
                <a:srgbClr val="f3d80a"/>
              </a:gs>
            </a:gsLst>
            <a:lin ang="5400000"/>
          </a:gradFill>
          <a:ln w="507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7320" y="3962520"/>
            <a:ext cx="5043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5257800"/>
            <a:ext cx="914400" cy="915840"/>
          </a:xfrm>
          <a:custGeom>
            <a:avLst/>
            <a:gdLst>
              <a:gd name="textAreaLeft" fmla="*/ 26280 w 914400"/>
              <a:gd name="textAreaRight" fmla="*/ 888120 w 914400"/>
              <a:gd name="textAreaTop" fmla="*/ 26280 h 915840"/>
              <a:gd name="textAreaBottom" fmla="*/ 889560 h 915840"/>
            </a:gdLst>
            <a:ahLst/>
            <a:rect l="textAreaLeft" t="textAreaTop" r="textAreaRight" b="textAreaBottom"/>
            <a:pathLst>
              <a:path w="21600" h="21634">
                <a:moveTo>
                  <a:pt x="2124" y="0"/>
                </a:moveTo>
                <a:arcTo wR="2124" hR="2124" stAng="16200000" swAng="-5400000"/>
                <a:lnTo>
                  <a:pt x="0" y="19510"/>
                </a:lnTo>
                <a:arcTo wR="2124" hR="2124" stAng="10800000" swAng="-5400000"/>
                <a:lnTo>
                  <a:pt x="19476" y="21634"/>
                </a:lnTo>
                <a:arcTo wR="2124" hR="2124" stAng="5400000" swAng="-5400000"/>
                <a:lnTo>
                  <a:pt x="21600" y="2124"/>
                </a:lnTo>
                <a:arcTo wR="2124" hR="2124" stAng="0" swAng="-5400000"/>
                <a:close/>
              </a:path>
            </a:pathLst>
          </a:custGeom>
          <a:gradFill rotWithShape="0">
            <a:gsLst>
              <a:gs pos="0">
                <a:srgbClr val="f3d80a"/>
              </a:gs>
              <a:gs pos="50000">
                <a:srgbClr val="f6e66b"/>
              </a:gs>
              <a:gs pos="100000">
                <a:srgbClr val="f3d80a"/>
              </a:gs>
            </a:gsLst>
            <a:lin ang="5400000"/>
          </a:gradFill>
          <a:ln w="50760">
            <a:solidFill>
              <a:srgbClr val="ff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320" y="5275440"/>
            <a:ext cx="5043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0000"/>
                </a:solidFill>
                <a:latin typeface="Tahoma"/>
              </a:rPr>
              <a:t>S</a:t>
            </a:r>
            <a:endParaRPr b="0" lang="en-US" sz="4800" spc="-1" strike="noStrike">
              <a:solidFill>
                <a:srgbClr val="161d4e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refighting Deci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58440" y="1044720"/>
            <a:ext cx="8332920" cy="527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35962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5962b"/>
                </a:solidFill>
                <a:uFillTx/>
                <a:latin typeface="Tahoma"/>
              </a:rPr>
              <a:t>Know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 department emergency procedures and evacuation routes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35962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5962b"/>
                </a:solidFill>
                <a:uFillTx/>
                <a:latin typeface="Tahoma"/>
              </a:rPr>
              <a:t>Know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 locations of extinguishers in your area and how to use them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35962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5962b"/>
                </a:solidFill>
                <a:uFillTx/>
                <a:latin typeface="Tahoma"/>
              </a:rPr>
              <a:t>Always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 sound the alarm </a:t>
            </a:r>
            <a:r>
              <a:rPr b="0" lang="en-US" sz="2000" spc="-1" strike="noStrike" u="sng">
                <a:solidFill>
                  <a:srgbClr val="35962b"/>
                </a:solidFill>
                <a:uFillTx/>
                <a:latin typeface="Tahoma"/>
              </a:rPr>
              <a:t>regardless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 of fire size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35962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5962b"/>
                </a:solidFill>
                <a:uFillTx/>
                <a:latin typeface="Tahoma"/>
              </a:rPr>
              <a:t>Avoid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 smoky conditions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35962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5962b"/>
                </a:solidFill>
                <a:uFillTx/>
                <a:latin typeface="Tahoma"/>
              </a:rPr>
              <a:t>Ensure</a:t>
            </a:r>
            <a:r>
              <a:rPr b="0" lang="en-US" sz="2000" spc="-1" strike="noStrike">
                <a:solidFill>
                  <a:srgbClr val="35962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area is evacuated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35962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5962b"/>
                </a:solidFill>
                <a:uFillTx/>
                <a:latin typeface="Tahoma"/>
              </a:rPr>
              <a:t>Don’t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 attempt to fight unless: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lvl="1" marL="517680" indent="-208080">
              <a:lnSpc>
                <a:spcPct val="100000"/>
              </a:lnSpc>
              <a:spcBef>
                <a:spcPts val="499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Alarm is sounded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lvl="1" marL="517680" indent="-208080">
              <a:lnSpc>
                <a:spcPct val="100000"/>
              </a:lnSpc>
              <a:spcBef>
                <a:spcPts val="499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Fire is </a:t>
            </a:r>
            <a:r>
              <a:rPr b="0" lang="en-US" sz="2000" spc="-1" strike="noStrike" u="sng">
                <a:solidFill>
                  <a:srgbClr val="ac2e25"/>
                </a:solidFill>
                <a:uFillTx/>
                <a:latin typeface="Tahoma"/>
              </a:rPr>
              <a:t>small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 and </a:t>
            </a:r>
            <a:r>
              <a:rPr b="0" lang="en-US" sz="2000" spc="-1" strike="noStrike" u="sng">
                <a:solidFill>
                  <a:srgbClr val="ac2e25"/>
                </a:solidFill>
                <a:uFillTx/>
                <a:latin typeface="Tahoma"/>
              </a:rPr>
              <a:t>contained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lvl="1" marL="517680" indent="-208080">
              <a:lnSpc>
                <a:spcPct val="100000"/>
              </a:lnSpc>
              <a:spcBef>
                <a:spcPts val="499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You have safe egress route (can be reached </a:t>
            </a:r>
            <a:r>
              <a:rPr b="0" lang="en-US" sz="2000" spc="-1" strike="noStrike" u="sng">
                <a:solidFill>
                  <a:srgbClr val="ac2e25"/>
                </a:solidFill>
                <a:uFillTx/>
                <a:latin typeface="Tahoma"/>
              </a:rPr>
              <a:t>without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 exposure to fire)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lvl="1" marL="517680" indent="-208080">
              <a:lnSpc>
                <a:spcPct val="100000"/>
              </a:lnSpc>
              <a:spcBef>
                <a:spcPts val="499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Available extinguishers are rated for size and type of fire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If in doubt, </a:t>
            </a:r>
            <a:r>
              <a:rPr b="0" lang="en-US" sz="2000" spc="-1" strike="noStrike" u="sng">
                <a:solidFill>
                  <a:srgbClr val="35962b"/>
                </a:solidFill>
                <a:uFillTx/>
                <a:latin typeface="Tahoma"/>
              </a:rPr>
              <a:t>evacuate!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lnSpc>
                <a:spcPct val="10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5962b"/>
                </a:solidFill>
                <a:uFillTx/>
                <a:latin typeface="Tahoma"/>
              </a:rPr>
              <a:t>“</a:t>
            </a:r>
            <a:r>
              <a:rPr b="0" lang="en-US" sz="2000" spc="-1" strike="noStrike" u="sng">
                <a:solidFill>
                  <a:srgbClr val="35962b"/>
                </a:solidFill>
                <a:uFillTx/>
                <a:latin typeface="Tahoma"/>
              </a:rPr>
              <a:t>DON’T ATTEMPT TO FIGHT UNLESS YOU ARE TRAINED”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638680" y="2251080"/>
            <a:ext cx="2286000" cy="1635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99072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c2e25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5120" indent="-195120">
              <a:lnSpc>
                <a:spcPct val="100000"/>
              </a:lnSpc>
              <a:spcBef>
                <a:spcPts val="1199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24e"/>
                </a:solidFill>
                <a:latin typeface="Tahoma"/>
              </a:rPr>
              <a:t>Combustion Process </a:t>
            </a:r>
            <a:r>
              <a:rPr b="0" i="1" lang="en-US" sz="2400" spc="-1" strike="noStrike">
                <a:solidFill>
                  <a:srgbClr val="18224e"/>
                </a:solidFill>
                <a:latin typeface="Tahoma"/>
              </a:rPr>
              <a:t>(Fire Triangle)</a:t>
            </a:r>
            <a:endParaRPr b="0" lang="en-US" sz="24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1199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24e"/>
                </a:solidFill>
                <a:latin typeface="Tahoma"/>
              </a:rPr>
              <a:t>Class A, B, C, D, K fires</a:t>
            </a:r>
            <a:endParaRPr b="0" lang="en-US" sz="24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1199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24e"/>
                </a:solidFill>
                <a:latin typeface="Tahoma"/>
              </a:rPr>
              <a:t>Types of portable fire extinguishers:</a:t>
            </a:r>
            <a:endParaRPr b="0" lang="en-US" sz="2400" spc="-1" strike="noStrike">
              <a:solidFill>
                <a:srgbClr val="18224e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24e"/>
              </a:solidFill>
              <a:latin typeface="Arial"/>
            </a:endParaRPr>
          </a:p>
          <a:p>
            <a:pPr lvl="1" marL="574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24e"/>
              </a:solidFill>
              <a:latin typeface="Arial"/>
            </a:endParaRPr>
          </a:p>
          <a:p>
            <a:pPr lvl="1" marL="574560" indent="-188640">
              <a:lnSpc>
                <a:spcPct val="100000"/>
              </a:lnSpc>
              <a:spcBef>
                <a:spcPts val="2251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24e"/>
                </a:solidFill>
                <a:latin typeface="Tahoma"/>
              </a:rPr>
              <a:t>Operating procedures</a:t>
            </a:r>
            <a:endParaRPr b="0" lang="en-US" sz="2400" spc="-1" strike="noStrike">
              <a:solidFill>
                <a:srgbClr val="18224e"/>
              </a:solidFill>
              <a:latin typeface="Arial"/>
            </a:endParaRPr>
          </a:p>
          <a:p>
            <a:pPr lvl="1" marL="574560" indent="-188640">
              <a:lnSpc>
                <a:spcPct val="100000"/>
              </a:lnSpc>
              <a:spcBef>
                <a:spcPts val="601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24e"/>
                </a:solidFill>
                <a:latin typeface="Tahoma"/>
              </a:rPr>
              <a:t>Capabilities and limitations</a:t>
            </a:r>
            <a:endParaRPr b="0" lang="en-US" sz="24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1749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24e"/>
                </a:solidFill>
                <a:latin typeface="Tahoma"/>
              </a:rPr>
              <a:t>Basic firefighting concepts:   </a:t>
            </a:r>
            <a:r>
              <a:rPr b="1" lang="en-US" sz="2800" spc="-1" strike="noStrike">
                <a:solidFill>
                  <a:srgbClr val="35962b"/>
                </a:solidFill>
                <a:latin typeface="Tahoma"/>
              </a:rPr>
              <a:t>R.A.C.E.</a:t>
            </a:r>
            <a:endParaRPr b="0" lang="en-US" sz="28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962b"/>
                </a:solidFill>
                <a:latin typeface="Tahoma"/>
              </a:rPr>
              <a:t>                                       </a:t>
            </a:r>
            <a:r>
              <a:rPr b="1" lang="en-US" sz="2800" spc="-1" strike="noStrike">
                <a:solidFill>
                  <a:srgbClr val="35962b"/>
                </a:solidFill>
                <a:latin typeface="Tahoma"/>
              </a:rPr>
              <a:t>P.A.S.S.</a:t>
            </a:r>
            <a:endParaRPr b="0" lang="en-US" sz="2800" spc="-1" strike="noStrike">
              <a:solidFill>
                <a:srgbClr val="18224e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66680" y="3200400"/>
            <a:ext cx="1295640" cy="9144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1295280" cy="898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4127400" y="3198960"/>
            <a:ext cx="1206720" cy="915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33520" y="15228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re Safety &amp; Fire Extinguisher Use</a:t>
            </a:r>
            <a:endParaRPr b="0" lang="en-US" sz="3200" spc="-1" strike="noStrike">
              <a:solidFill>
                <a:srgbClr val="161d4e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solidFill>
            <a:srgbClr val="161d4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z Question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Fire extinguisher marked with an A is used on: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A) oil fires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B) Electrical fires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C) paper material fires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D) none of the above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solidFill>
            <a:srgbClr val="161d4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z Question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Fire extinguishers marked with a B can be used on: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A) Paper, trash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B) Oil or Grease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C) Electrical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D) Non of the above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solidFill>
            <a:srgbClr val="161d4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z addend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How else you can kill a grease fire?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419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18224e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Smother 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18224e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Baking Soda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419040" indent="-419040">
              <a:spcBef>
                <a:spcPts val="550"/>
              </a:spcBef>
              <a:buClr>
                <a:srgbClr val="18224e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A&amp;B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solidFill>
            <a:srgbClr val="161d4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z Question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Fire extinguisher marked ABC can be used on: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A) Wood, Paper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B) Electrical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C) Liquids and grease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D) All of the above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solidFill>
            <a:srgbClr val="161d4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z Question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Fire Extinguishers marked with D are used for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A) Combustible chemicals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B) Magnesium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C) Potassium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D) other flammable metals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E) all of the above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2e25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6781680" cy="426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5120" indent="-195120">
              <a:lnSpc>
                <a:spcPct val="100000"/>
              </a:lnSpc>
              <a:spcBef>
                <a:spcPts val="601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24e"/>
                </a:solidFill>
                <a:latin typeface="Tahoma"/>
              </a:rPr>
              <a:t>Understand the combustion process and different fire classes</a:t>
            </a:r>
            <a:endParaRPr b="0" lang="en-US" sz="24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601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24e"/>
                </a:solidFill>
                <a:latin typeface="Tahoma"/>
              </a:rPr>
              <a:t>Understand fire extinguisher types, operating procedures </a:t>
            </a:r>
            <a:endParaRPr b="0" lang="en-US" sz="24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601"/>
              </a:spcBef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224e"/>
                </a:solidFill>
                <a:latin typeface="Tahoma"/>
              </a:rPr>
              <a:t>Understand basic firefighting concepts:</a:t>
            </a:r>
            <a:endParaRPr b="0" lang="en-US" sz="2400" spc="-1" strike="noStrike">
              <a:solidFill>
                <a:srgbClr val="18224e"/>
              </a:solidFill>
              <a:latin typeface="Arial"/>
            </a:endParaRPr>
          </a:p>
          <a:p>
            <a:pPr lvl="1" marL="4572000" indent="-228600">
              <a:lnSpc>
                <a:spcPct val="100000"/>
              </a:lnSpc>
              <a:spcBef>
                <a:spcPts val="700"/>
              </a:spcBef>
              <a:buClr>
                <a:srgbClr val="35962b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962b"/>
                </a:solidFill>
                <a:latin typeface="Tahoma"/>
              </a:rPr>
              <a:t>R.A.C.E.</a:t>
            </a:r>
            <a:endParaRPr b="0" lang="en-US" sz="2800" spc="-1" strike="noStrike">
              <a:solidFill>
                <a:srgbClr val="18224e"/>
              </a:solidFill>
              <a:latin typeface="Arial"/>
            </a:endParaRPr>
          </a:p>
          <a:p>
            <a:pPr lvl="1" marL="4572000" indent="-228600">
              <a:lnSpc>
                <a:spcPct val="100000"/>
              </a:lnSpc>
              <a:spcBef>
                <a:spcPts val="700"/>
              </a:spcBef>
              <a:buClr>
                <a:srgbClr val="35962b"/>
              </a:buClr>
              <a:buFont typeface="Tahoma"/>
              <a:buChar char="•"/>
              <a:tabLst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5962b"/>
                </a:solidFill>
                <a:latin typeface="Tahoma"/>
              </a:rPr>
              <a:t>P.A.S.S.</a:t>
            </a:r>
            <a:endParaRPr b="0" lang="en-US" sz="28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5228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re Safety &amp; Fire Extinguisher Use</a:t>
            </a:r>
            <a:endParaRPr b="0" lang="en-US" sz="3200" spc="-1" strike="noStrike">
              <a:solidFill>
                <a:srgbClr val="161d4e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solidFill>
            <a:srgbClr val="161d4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iz Question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For what fires is a Halon Fire Extinguisher being used?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Guess 1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Guess 2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Guess 3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spcBef>
                <a:spcPts val="55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Arial"/>
              </a:rPr>
              <a:t>Guess 4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solidFill>
            <a:srgbClr val="161d4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6781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224e"/>
                </a:solidFill>
                <a:latin typeface="Arial"/>
              </a:rPr>
              <a:t>Halon fire extinguisher is important device to have, especially for emergency situations. It contains a gas that interrupts the chemical reaction that takes place when fuels burn. </a:t>
            </a:r>
            <a:r>
              <a:rPr b="0" lang="en-US" sz="1800" spc="-1" strike="noStrike" u="sng">
                <a:solidFill>
                  <a:srgbClr val="ac2e25"/>
                </a:solidFill>
                <a:uFillTx/>
                <a:latin typeface="Arial"/>
                <a:hlinkClick r:id="rId1"/>
              </a:rPr>
              <a:t>Halon fire extinguisher</a:t>
            </a:r>
            <a:r>
              <a:rPr b="0" lang="en-US" sz="1800" spc="-1" strike="noStrike">
                <a:solidFill>
                  <a:srgbClr val="18224e"/>
                </a:solidFill>
                <a:latin typeface="Arial"/>
              </a:rPr>
              <a:t> is often used to protect valuable electrical equipment since they leave no residue.</a:t>
            </a:r>
            <a:endParaRPr b="0" lang="en-US" sz="18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224e"/>
                </a:solidFill>
                <a:latin typeface="Arial"/>
              </a:rPr>
              <a:t>Such on expensive computers, server rooms, etc.</a:t>
            </a:r>
            <a:endParaRPr b="0" lang="en-US" sz="18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224e"/>
                </a:solidFill>
                <a:latin typeface="Arial"/>
              </a:rPr>
              <a:t>Since Halon manufacturing was banned, a hunt has been on for something that works as well. According to the Halon Alternatives Research Corp., more than 20 different kinds of alternatives exist as direct replacements. </a:t>
            </a:r>
            <a:endParaRPr b="0" lang="en-US" sz="18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451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224e"/>
                </a:solidFill>
                <a:latin typeface="Arial"/>
              </a:rPr>
              <a:t>Halon Replacement</a:t>
            </a:r>
            <a:endParaRPr b="0" lang="en-US" sz="1800" spc="-1" strike="noStrike">
              <a:solidFill>
                <a:srgbClr val="18224e"/>
              </a:solidFill>
              <a:latin typeface="Arial"/>
            </a:endParaRPr>
          </a:p>
          <a:p>
            <a:pPr lvl="1" marL="574560" indent="-188640">
              <a:lnSpc>
                <a:spcPct val="90000"/>
              </a:lnSpc>
              <a:spcBef>
                <a:spcPts val="400"/>
              </a:spcBef>
              <a:buClr>
                <a:srgbClr val="182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8224e"/>
                </a:solidFill>
                <a:latin typeface="Arial"/>
              </a:rPr>
              <a:t>Those categories are inert gases and halocarbon compounds. </a:t>
            </a:r>
            <a:endParaRPr b="0" lang="en-US" sz="1600" spc="-1" strike="noStrike">
              <a:solidFill>
                <a:srgbClr val="18224e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8224e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99072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c2e25"/>
                </a:solidFill>
                <a:latin typeface="Tahoma"/>
              </a:rPr>
              <a:t>The Combustion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343400" y="2057400"/>
            <a:ext cx="4267080" cy="3164040"/>
            <a:chOff x="4343400" y="2057400"/>
            <a:chExt cx="4267080" cy="316404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4343400" y="2057400"/>
              <a:ext cx="4267080" cy="316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 txBox="1"/>
            <p:nvPr/>
          </p:nvSpPr>
          <p:spPr>
            <a:xfrm>
              <a:off x="4343400" y="2057400"/>
              <a:ext cx="4267080" cy="316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195120" indent="-195120">
                <a:lnSpc>
                  <a:spcPct val="100000"/>
                </a:lnSpc>
                <a:spcBef>
                  <a:spcPts val="499"/>
                </a:spcBef>
                <a:buClr>
                  <a:srgbClr val="18224e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161d4e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33520" y="15228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re Safety &amp; Fire Extinguisher Use</a:t>
            </a:r>
            <a:endParaRPr b="0" lang="en-US" sz="32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905120"/>
            <a:ext cx="37339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61d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d4e"/>
                </a:solidFill>
                <a:latin typeface="Tahoma"/>
              </a:rPr>
              <a:t>Three components</a:t>
            </a:r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61d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d4e"/>
                </a:solidFill>
                <a:latin typeface="Tahoma"/>
              </a:rPr>
              <a:t>Need all three components to start a fire</a:t>
            </a:r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161d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d4e"/>
                </a:solidFill>
                <a:latin typeface="Tahoma"/>
              </a:rPr>
              <a:t>Fire extinguishers remove one or more of the components.</a:t>
            </a:r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0560" y="3313080"/>
            <a:ext cx="419076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3313080"/>
            <a:ext cx="4189680" cy="23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0560" y="990720"/>
            <a:ext cx="419076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990720"/>
            <a:ext cx="418968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13080"/>
            <a:ext cx="8380440" cy="3240"/>
          </a:xfrm>
          <a:prstGeom prst="line">
            <a:avLst/>
          </a:prstGeom>
          <a:ln w="12600">
            <a:solidFill>
              <a:srgbClr val="161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5637240"/>
            <a:ext cx="8380440" cy="1440"/>
          </a:xfrm>
          <a:prstGeom prst="line">
            <a:avLst/>
          </a:prstGeom>
          <a:ln cap="sq" w="28440">
            <a:solidFill>
              <a:srgbClr val="161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990720"/>
            <a:ext cx="1800" cy="4646520"/>
          </a:xfrm>
          <a:prstGeom prst="line">
            <a:avLst/>
          </a:prstGeom>
          <a:ln cap="sq" w="28440">
            <a:solidFill>
              <a:srgbClr val="161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0560" y="990720"/>
            <a:ext cx="2880" cy="4646520"/>
          </a:xfrm>
          <a:prstGeom prst="line">
            <a:avLst/>
          </a:prstGeom>
          <a:ln w="12600">
            <a:solidFill>
              <a:srgbClr val="161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761320" y="990720"/>
            <a:ext cx="1800" cy="4646520"/>
          </a:xfrm>
          <a:prstGeom prst="line">
            <a:avLst/>
          </a:prstGeom>
          <a:ln cap="sq" w="28440">
            <a:solidFill>
              <a:srgbClr val="161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0560" y="990720"/>
            <a:ext cx="4190760" cy="1440"/>
          </a:xfrm>
          <a:prstGeom prst="line">
            <a:avLst/>
          </a:prstGeom>
          <a:ln w="12600">
            <a:solidFill>
              <a:srgbClr val="161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990720"/>
            <a:ext cx="4189680" cy="1440"/>
          </a:xfrm>
          <a:prstGeom prst="line">
            <a:avLst/>
          </a:prstGeom>
          <a:ln cap="sq" w="9360">
            <a:solidFill>
              <a:srgbClr val="161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6781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ire Clas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5520" y="1682640"/>
            <a:ext cx="1860480" cy="121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667400" y="1738440"/>
            <a:ext cx="1885680" cy="12333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" y="4057560"/>
            <a:ext cx="1905120" cy="1276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257800" y="4038480"/>
            <a:ext cx="1143000" cy="1113120"/>
          </a:xfrm>
          <a:prstGeom prst="star5">
            <a:avLst/>
          </a:prstGeom>
          <a:solidFill>
            <a:srgbClr val="fafd00"/>
          </a:solidFill>
          <a:ln w="12600">
            <a:solidFill>
              <a:srgbClr val="161d4e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880" y="1066680"/>
            <a:ext cx="31464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ff00"/>
                </a:solidFill>
                <a:latin typeface="Tahoma"/>
              </a:rPr>
              <a:t>A</a:t>
            </a:r>
            <a:r>
              <a:rPr b="1" lang="en-US" sz="1800" spc="-1" strike="noStrike">
                <a:solidFill>
                  <a:srgbClr val="ac2e25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161d4e"/>
                </a:solidFill>
                <a:latin typeface="Tahoma"/>
              </a:rPr>
              <a:t>Trash   Wood   Paper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8160" y="3446640"/>
            <a:ext cx="2938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d4e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ac2e25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161d4e"/>
                </a:solidFill>
                <a:latin typeface="Tahoma"/>
              </a:rPr>
              <a:t>Electrical Equipment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48320" y="1066680"/>
            <a:ext cx="2895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c2e25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ac2e25"/>
                </a:solidFill>
                <a:latin typeface="Tahoma"/>
              </a:rPr>
              <a:t>B</a:t>
            </a:r>
            <a:r>
              <a:rPr b="1" lang="en-US" sz="1800" spc="-1" strike="noStrike">
                <a:solidFill>
                  <a:srgbClr val="ac2e25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161d4e"/>
                </a:solidFill>
                <a:latin typeface="Tahoma"/>
              </a:rPr>
              <a:t>Liquids   Grease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04280" y="3598920"/>
            <a:ext cx="1809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d4e"/>
                </a:solidFill>
                <a:latin typeface="Tahoma"/>
              </a:rPr>
              <a:t>COMBUSTIBLE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71480" y="5181480"/>
            <a:ext cx="1071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d4e"/>
                </a:solidFill>
                <a:latin typeface="Tahoma"/>
              </a:rPr>
              <a:t>METALS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3160" y="4478400"/>
            <a:ext cx="695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1d4e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14240" y="1600200"/>
            <a:ext cx="17845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5120" indent="-19512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wood</a:t>
            </a:r>
            <a:endParaRPr b="0" lang="en-US" sz="18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paper</a:t>
            </a:r>
            <a:endParaRPr b="0" lang="en-US" sz="18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cloth</a:t>
            </a:r>
            <a:endParaRPr b="0" lang="en-US" sz="18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etc.</a:t>
            </a:r>
            <a:endParaRPr b="0" lang="en-US" sz="18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50000" y="1600200"/>
            <a:ext cx="2013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gasoline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oil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grease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other solvents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4600" y="3962520"/>
            <a:ext cx="213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computers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fax machine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other energized electrical equip.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3429000"/>
            <a:ext cx="1752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magnesium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sodium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potassium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titanium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ac2e25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c2e25"/>
                </a:solidFill>
                <a:latin typeface="Tahoma"/>
              </a:rPr>
              <a:t>other flammable metals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7391520" y="0"/>
            <a:ext cx="838080" cy="901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990720" y="0"/>
            <a:ext cx="838080" cy="901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6781680" cy="838080"/>
          </a:xfrm>
          <a:prstGeom prst="rect">
            <a:avLst/>
          </a:prstGeom>
          <a:solidFill>
            <a:srgbClr val="161d4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re Classe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06200" y="497844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d4e"/>
                </a:solidFill>
                <a:latin typeface="Tahoma"/>
              </a:rPr>
              <a:t>K  Cooking Media</a:t>
            </a:r>
            <a:endParaRPr b="0" lang="en-US" sz="18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14880" y="2438280"/>
            <a:ext cx="521964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161d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d4e"/>
                </a:solidFill>
                <a:latin typeface="Tahoma"/>
              </a:rPr>
              <a:t>Recently recognized by NFPA 10</a:t>
            </a:r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Clr>
                <a:srgbClr val="161d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1d4e"/>
                </a:solidFill>
                <a:latin typeface="Tahoma"/>
              </a:rPr>
              <a:t>Fires involving combustible oils, lards and fats in commercial cooking.</a:t>
            </a:r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26760" y="1219320"/>
            <a:ext cx="298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c2e25"/>
                </a:solidFill>
                <a:latin typeface="Tahoma"/>
              </a:rPr>
              <a:t>CLASS K FIRES</a:t>
            </a:r>
            <a:endParaRPr b="0" lang="en-US" sz="3200" spc="-1" strike="noStrike">
              <a:solidFill>
                <a:srgbClr val="161d4e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838080" cy="9018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90720" y="0"/>
            <a:ext cx="838080" cy="9018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143000" y="304812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re Extinguisher Anat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481720" y="5410080"/>
            <a:ext cx="1915920" cy="0"/>
          </a:xfrm>
          <a:prstGeom prst="line">
            <a:avLst/>
          </a:prstGeom>
          <a:ln w="12600">
            <a:solidFill>
              <a:srgbClr val="161d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522520" y="5862600"/>
            <a:ext cx="1509840" cy="316080"/>
          </a:xfrm>
          <a:prstGeom prst="line">
            <a:avLst/>
          </a:prstGeom>
          <a:ln w="12600">
            <a:solidFill>
              <a:srgbClr val="161d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09880" y="1295280"/>
            <a:ext cx="1782720" cy="51832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38" name=""/>
          <p:cNvSpPr/>
          <p:nvPr/>
        </p:nvSpPr>
        <p:spPr>
          <a:xfrm flipH="1">
            <a:off x="5100480" y="1608120"/>
            <a:ext cx="1764000" cy="595440"/>
          </a:xfrm>
          <a:prstGeom prst="line">
            <a:avLst/>
          </a:prstGeom>
          <a:ln w="12600">
            <a:solidFill>
              <a:srgbClr val="161d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46200" y="1523880"/>
            <a:ext cx="2729160" cy="0"/>
          </a:xfrm>
          <a:prstGeom prst="line">
            <a:avLst/>
          </a:prstGeom>
          <a:ln w="12600">
            <a:solidFill>
              <a:srgbClr val="161d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46200" y="3124080"/>
            <a:ext cx="1586160" cy="0"/>
          </a:xfrm>
          <a:prstGeom prst="line">
            <a:avLst/>
          </a:prstGeom>
          <a:ln w="12600">
            <a:solidFill>
              <a:srgbClr val="161d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2520" y="5410080"/>
            <a:ext cx="1585800" cy="0"/>
          </a:xfrm>
          <a:prstGeom prst="line">
            <a:avLst/>
          </a:prstGeom>
          <a:ln w="12600">
            <a:solidFill>
              <a:srgbClr val="161d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481360" y="2286000"/>
            <a:ext cx="1839960" cy="0"/>
          </a:xfrm>
          <a:prstGeom prst="line">
            <a:avLst/>
          </a:prstGeom>
          <a:ln w="12600">
            <a:solidFill>
              <a:srgbClr val="161d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2674800" y="1899720"/>
            <a:ext cx="2271960" cy="468360"/>
          </a:xfrm>
          <a:prstGeom prst="line">
            <a:avLst/>
          </a:prstGeom>
          <a:ln w="12600">
            <a:solidFill>
              <a:srgbClr val="161d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868640" y="4179960"/>
            <a:ext cx="2376360" cy="15840"/>
          </a:xfrm>
          <a:prstGeom prst="line">
            <a:avLst/>
          </a:prstGeom>
          <a:ln w="12600">
            <a:solidFill>
              <a:srgbClr val="161d4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4640" y="2973240"/>
            <a:ext cx="1726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d4e"/>
                </a:solidFill>
                <a:latin typeface="Tahoma"/>
              </a:rPr>
              <a:t>DISCHARGE HOSE</a:t>
            </a:r>
            <a:endParaRPr b="0" lang="en-US" sz="1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6640" y="5259240"/>
            <a:ext cx="1944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d4e"/>
                </a:solidFill>
                <a:latin typeface="Tahoma"/>
              </a:rPr>
              <a:t>DISCHARGE NOZZLE</a:t>
            </a:r>
            <a:endParaRPr b="0" lang="en-US" sz="1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7280" y="6021360"/>
            <a:ext cx="1961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d4e"/>
                </a:solidFill>
                <a:latin typeface="Tahoma"/>
              </a:rPr>
              <a:t>DISCHARGE ORIFICE</a:t>
            </a:r>
            <a:endParaRPr b="0" lang="en-US" sz="1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73240" y="5259240"/>
            <a:ext cx="687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d4e"/>
                </a:solidFill>
                <a:latin typeface="Tahoma"/>
              </a:rPr>
              <a:t>BODY</a:t>
            </a:r>
            <a:endParaRPr b="0" lang="en-US" sz="1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3120" y="4040280"/>
            <a:ext cx="1249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d4e"/>
                </a:solidFill>
                <a:latin typeface="Tahoma"/>
              </a:rPr>
              <a:t>DATA PLATE</a:t>
            </a:r>
            <a:endParaRPr b="0" lang="en-US" sz="1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2680" y="2058840"/>
            <a:ext cx="1109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d4e"/>
                </a:solidFill>
                <a:latin typeface="Tahoma"/>
              </a:rPr>
              <a:t>CARRYING</a:t>
            </a:r>
            <a:endParaRPr b="0" lang="en-US" sz="1400" spc="-1" strike="noStrike">
              <a:solidFill>
                <a:srgbClr val="161d4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d4e"/>
                </a:solidFill>
                <a:latin typeface="Tahoma"/>
              </a:rPr>
              <a:t>HANDLE</a:t>
            </a:r>
            <a:endParaRPr b="0" lang="en-US" sz="1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0000" y="1220760"/>
            <a:ext cx="172080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d4e"/>
                </a:solidFill>
                <a:latin typeface="Tahoma"/>
              </a:rPr>
              <a:t>PRESSURE GAUGE</a:t>
            </a:r>
            <a:endParaRPr b="0" lang="en-US" sz="1400" spc="-1" strike="noStrike">
              <a:solidFill>
                <a:srgbClr val="161d4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61d4e"/>
                </a:solidFill>
                <a:latin typeface="Tahoma"/>
              </a:rPr>
              <a:t>(not found on CO</a:t>
            </a:r>
            <a:r>
              <a:rPr b="1" i="1" lang="en-US" sz="1400" spc="-1" strike="noStrike" baseline="-25000">
                <a:solidFill>
                  <a:srgbClr val="161d4e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161d4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61d4e"/>
                </a:solidFill>
                <a:latin typeface="Tahoma"/>
              </a:rPr>
              <a:t>extinguishers)</a:t>
            </a:r>
            <a:endParaRPr b="0" lang="en-US" sz="1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5120" y="1373040"/>
            <a:ext cx="1784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d4e"/>
                </a:solidFill>
                <a:latin typeface="Tahoma"/>
              </a:rPr>
              <a:t>DISCHARGE LEVER</a:t>
            </a:r>
            <a:endParaRPr b="0" lang="en-US" sz="1400" spc="-1" strike="noStrike">
              <a:solidFill>
                <a:srgbClr val="161d4e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8240" y="2058840"/>
            <a:ext cx="2441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d4e"/>
                </a:solidFill>
                <a:latin typeface="Tahoma"/>
              </a:rPr>
              <a:t>DISCHARGE LOCKING PIN</a:t>
            </a:r>
            <a:endParaRPr b="0" lang="en-US" sz="1400" spc="-1" strike="noStrike">
              <a:solidFill>
                <a:srgbClr val="161d4e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d4e"/>
                </a:solidFill>
                <a:latin typeface="Tahoma"/>
              </a:rPr>
              <a:t>AND SEAL</a:t>
            </a:r>
            <a:endParaRPr b="0" lang="en-US" sz="1400" spc="-1" strike="noStrike">
              <a:solidFill>
                <a:srgbClr val="161d4e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re Extinguisher Ty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27320" y="1905120"/>
            <a:ext cx="4507200" cy="402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5120" indent="-195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Class “A” fires only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2.5 gal. water                                  </a:t>
            </a:r>
            <a:r>
              <a:rPr b="0" i="1" lang="en-US" sz="2000" spc="-1" strike="noStrike">
                <a:solidFill>
                  <a:srgbClr val="18224e"/>
                </a:solidFill>
                <a:latin typeface="Tahoma"/>
              </a:rPr>
              <a:t>(up to 1 minute discharge time)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Has pressure gauge to allow visual capacity check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30-40 ft. maximum effective range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Can be started and stopped as necessary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Extinguishes by </a:t>
            </a:r>
            <a:r>
              <a:rPr b="1" i="1" lang="en-US" sz="2000" spc="-1" strike="noStrike" u="sng">
                <a:solidFill>
                  <a:srgbClr val="ac2e25"/>
                </a:solidFill>
                <a:uFillTx/>
                <a:latin typeface="Tahoma"/>
              </a:rPr>
              <a:t>cooling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 burning material below the ignition point.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1096920" cy="3441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073760" y="1298520"/>
            <a:ext cx="385416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2e25"/>
                </a:solidFill>
                <a:latin typeface="Tahoma"/>
              </a:rPr>
              <a:t>PRESSURIZED WATER</a:t>
            </a:r>
            <a:endParaRPr b="0" lang="en-US" sz="2800" spc="-1" strike="noStrike">
              <a:solidFill>
                <a:srgbClr val="161d4e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981080" y="1576440"/>
            <a:ext cx="1889280" cy="4748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re Extinguisher Type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017600" y="1828440"/>
            <a:ext cx="45925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5120" indent="-195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Class “B” or “C” fires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624"/>
              </a:spcBef>
              <a:spcAft>
                <a:spcPts val="499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2.5-100 lb. of CO</a:t>
            </a:r>
            <a:r>
              <a:rPr b="0" lang="en-US" sz="2000" spc="-1" strike="noStrike" baseline="-25000">
                <a:solidFill>
                  <a:srgbClr val="18224e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                        </a:t>
            </a:r>
            <a:r>
              <a:rPr b="0" i="1" lang="en-US" sz="2000" spc="-1" strike="noStrike">
                <a:solidFill>
                  <a:srgbClr val="18224e"/>
                </a:solidFill>
                <a:latin typeface="Tahoma"/>
              </a:rPr>
              <a:t>(8-30 seconds discharge time)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Has </a:t>
            </a:r>
            <a:r>
              <a:rPr b="0" i="1" lang="en-US" sz="2000" spc="-1" strike="noStrike" u="sng">
                <a:solidFill>
                  <a:srgbClr val="ac2e25"/>
                </a:solidFill>
                <a:uFillTx/>
                <a:latin typeface="Tahoma"/>
              </a:rPr>
              <a:t>NO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 pressure gauge--capacity verified by weight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3-8 ft. maximum effective range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Extinguishes by </a:t>
            </a:r>
            <a:r>
              <a:rPr b="0" i="1" lang="en-US" sz="2000" spc="-1" strike="noStrike" u="sng">
                <a:solidFill>
                  <a:srgbClr val="ac2e25"/>
                </a:solidFill>
                <a:uFillTx/>
                <a:latin typeface="Tahoma"/>
              </a:rPr>
              <a:t>smothering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 burning materials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  <a:p>
            <a:pPr marL="195120" indent="-195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Effectiveness </a:t>
            </a:r>
            <a:r>
              <a:rPr b="0" i="1" lang="en-US" sz="2000" spc="-1" strike="noStrike" u="sng">
                <a:solidFill>
                  <a:srgbClr val="ac2e25"/>
                </a:solidFill>
                <a:uFillTx/>
                <a:latin typeface="Tahoma"/>
              </a:rPr>
              <a:t>decreases</a:t>
            </a:r>
            <a:r>
              <a:rPr b="0" lang="en-US" sz="2000" spc="-1" strike="noStrike">
                <a:solidFill>
                  <a:srgbClr val="18224e"/>
                </a:solidFill>
                <a:latin typeface="Tahoma"/>
              </a:rPr>
              <a:t> as temperature of burning material increases.</a:t>
            </a:r>
            <a:endParaRPr b="0" lang="en-US" sz="20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060800" y="1160640"/>
            <a:ext cx="4265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2e25"/>
                </a:solidFill>
                <a:latin typeface="Tahoma"/>
              </a:rPr>
              <a:t>CARBON DIOXIDE (CO</a:t>
            </a:r>
            <a:r>
              <a:rPr b="1" lang="en-US" sz="2800" spc="-1" strike="noStrike" baseline="-25000">
                <a:solidFill>
                  <a:srgbClr val="ac2e25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ac2e25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161d4e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1371600" cy="36511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981080" y="1600200"/>
            <a:ext cx="1828800" cy="46483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re Extinguisher Type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038480" y="1980720"/>
            <a:ext cx="4114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92960" indent="-19296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Tahoma"/>
              </a:rPr>
              <a:t>Class “A”, “B”, or “C” fires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2960" indent="-19296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Tahoma"/>
              </a:rPr>
              <a:t>2.5-20 lb. dry chemical </a:t>
            </a:r>
            <a:r>
              <a:rPr b="0" i="1" lang="en-US" sz="2200" spc="-1" strike="noStrike">
                <a:solidFill>
                  <a:srgbClr val="18224e"/>
                </a:solidFill>
                <a:latin typeface="Tahoma"/>
              </a:rPr>
              <a:t>(ammonium phosphate)           8-25 seconds discharge time)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2960" indent="-19296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Tahoma"/>
              </a:rPr>
              <a:t>Has pressure gauge to allow visual capacity check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2960" indent="-19296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Tahoma"/>
              </a:rPr>
              <a:t>5-20 ft. maximum effective range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  <a:p>
            <a:pPr marL="192960" indent="-192960">
              <a:lnSpc>
                <a:spcPct val="100000"/>
              </a:lnSpc>
              <a:spcBef>
                <a:spcPts val="550"/>
              </a:spcBef>
              <a:spcAft>
                <a:spcPts val="550"/>
              </a:spcAft>
              <a:buClr>
                <a:srgbClr val="18224e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224e"/>
                </a:solidFill>
                <a:latin typeface="Tahoma"/>
              </a:rPr>
              <a:t>Extinguishes by </a:t>
            </a:r>
            <a:r>
              <a:rPr b="0" i="1" lang="en-US" sz="2200" spc="-1" strike="noStrike" u="sng">
                <a:solidFill>
                  <a:srgbClr val="ac2e25"/>
                </a:solidFill>
                <a:uFillTx/>
                <a:latin typeface="Tahoma"/>
              </a:rPr>
              <a:t>smothering</a:t>
            </a:r>
            <a:r>
              <a:rPr b="0" lang="en-US" sz="2200" spc="-1" strike="noStrike">
                <a:solidFill>
                  <a:srgbClr val="18224e"/>
                </a:solidFill>
                <a:latin typeface="Tahoma"/>
              </a:rPr>
              <a:t> burning materials.</a:t>
            </a:r>
            <a:endParaRPr b="0" lang="en-US" sz="2200" spc="-1" strike="noStrike">
              <a:solidFill>
                <a:srgbClr val="18224e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26680" y="1160640"/>
            <a:ext cx="56984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c2e25"/>
                </a:solidFill>
                <a:latin typeface="Tahoma"/>
              </a:rPr>
              <a:t>MULTIPURPOSE DRY CHEMICAL</a:t>
            </a:r>
            <a:endParaRPr b="0" lang="en-US" sz="2800" spc="-1" strike="noStrike">
              <a:solidFill>
                <a:srgbClr val="161d4e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1447560" cy="3483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057400" y="1752480"/>
            <a:ext cx="182880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6T12:43:34Z</dcterms:created>
  <dc:creator>Wyeth-Ayerst Laboratories</dc:creator>
  <dc:description/>
  <cp:keywords/>
  <dc:language>en-US</dc:language>
  <cp:lastModifiedBy>ithomas</cp:lastModifiedBy>
  <cp:lastPrinted>2001-10-10T21:15:17Z</cp:lastPrinted>
  <dcterms:modified xsi:type="dcterms:W3CDTF">2011-01-28T22:44:55Z</dcterms:modified>
  <cp:revision>62</cp:revision>
  <dc:subject/>
  <dc:title>Fire Extinguisher Training</dc:title>
</cp:coreProperties>
</file>