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0.png" ContentType="image/png"/>
  <Override PartName="/ppt/media/image7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26.gif" ContentType="image/gif"/>
  <Override PartName="/ppt/media/image9.png" ContentType="image/png"/>
  <Override PartName="/ppt/media/image5.gif" ContentType="image/gif"/>
  <Override PartName="/ppt/media/image8.jpeg" ContentType="image/jpeg"/>
  <Override PartName="/ppt/media/image25.gif" ContentType="image/gif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23.jpeg" ContentType="image/jpeg"/>
  <Override PartName="/ppt/media/image2.wmf" ContentType="image/x-wmf"/>
  <Override PartName="/ppt/media/image17.jpeg" ContentType="image/jpeg"/>
  <Override PartName="/ppt/media/image3.png" ContentType="image/png"/>
  <Override PartName="/ppt/media/image24.gif" ContentType="image/gi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10DC-CA02-43AC-9788-22B861E15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5280-AA55-450C-A248-EAD22BE96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894C-F949-4311-8A33-1F80CEF28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2422-93E1-4F94-AD31-6E8EEF2F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599-6665-4389-ABB6-DC4CF5F8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3A727-7628-4606-A582-B6F86CA0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C8C08-5F57-431B-B6CD-8E4F2827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A360A-59F6-43C2-B6FC-4882338D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F5160-81EC-4034-87AF-904FCADA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1E6E4-5B0B-4902-9614-E18ACBB6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1D8CE-A92F-43CB-A478-D282E398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C2C32-7771-4581-8050-B0056B54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51ACD-BDF5-402E-9C91-4F371022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1A97B-EC1D-482F-A542-499617D2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2677B-0451-4CA2-B331-2B68BF94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A5FC-1B7F-48F9-B8C9-BAC1404F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9FA66-25E1-4C72-932A-CEF21512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F47C4-CC08-4E95-816B-F9AFC28F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544A3-9BBE-4367-AAA9-DD83AE00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BEDD3-7043-4008-B727-1EAE61BD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878DC-DFFF-4102-B8EB-601C6899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43A49-1351-46B9-B407-01240B64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C8CEB-FC8F-4F83-8372-11052307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72E46-0F55-4060-83B2-8ECF0DBB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AC792-83AB-46E9-A38D-97CF8AD1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95233-D1F0-492F-AFDA-D46DB692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8522-8ACD-4831-BA67-ADA6DC37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D7B3E-9DA3-4D5E-A09D-A414A5CC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078CA-168C-424F-8A89-CC891FD6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C8D4B-72FB-409F-9CE0-D0585C3C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78AEA-1886-48F3-BED6-DF48063A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DFCF3-5046-4804-AD73-29F88EEB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7213D-73B6-4BD5-94A4-B8771936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29B33-5B4D-429F-99FA-382565DC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991E7-D7AF-4F20-A505-D679A044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4AA69-C143-4D31-AF24-708DC058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E3DFE-9313-4F77-8AF0-ADCB71A3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09F1-10A5-476A-838E-2EF655C5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7D8E7-D9A1-4795-AE84-B3B44B7C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D4B43-4CD2-47D3-ACAC-FCB076CE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3E1AA-BC42-434F-9690-1FCC0F4B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57B84-A6DF-4148-B157-F84E965D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0F081-18B9-4F04-AA55-9644B948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C0DD6-D8F4-4BBA-8548-CB9BC27C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9F037-503E-4C4D-AD39-EC936A6D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5439F-5020-4C57-B680-1A8F45AC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84878-F1F6-4AC0-BE74-93634C8A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C5143-38E6-45C2-916C-69E66886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790D-F338-4F4A-951C-F707DFF2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776F5-5609-4646-A360-611C0257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D27C7-E3D7-428E-8E1D-331F47C4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C0913-D4DB-4135-8603-12ECFC05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2864B-F17E-43F8-83B3-C95CC03C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896CA-AAD9-44A4-A79C-D0C9F5FB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A359F-7D8D-4ACC-A248-921D3539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28C45-9008-48F9-83C8-8ADDD561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A4510-99BC-4890-9A9A-CEDC9880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C6194-AC43-49DA-9251-9A654060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E31181-2316-4866-BE25-A5574E6B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37C9-3DB3-4C1F-84DF-2F8900E0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68E812-A702-4467-B740-520C7671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2993CA-CCF4-4871-88BF-35DEB5CA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51BE8-FBA9-403B-A66A-892652E3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5C3641-7BE5-4736-929A-0BEFC28F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1D64AC-D729-476B-A504-0D03DE5F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6FF8E-223A-4A6A-9F8A-46CC9B26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B70B6-EC48-475C-BA22-8E66A6BA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B09A28-4530-4E2B-A4E4-97A445F1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76087-6E21-458B-A4E1-116D1E6A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D4063B-E2F0-4A7E-A7B5-2192219A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F2AA-9AD0-4870-85C6-6876F6D0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60544A-9012-4C81-ACEC-0E314704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AE6C24-76E5-4A83-A63E-36F4FA50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3A36BB-0AEC-4E70-B034-AB23F27B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843208-797D-440E-99BE-FBA56453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40B80-396C-4DF0-BE3B-61843C81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8B0E8-E6E9-4C8D-929A-F045596F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B8B60-0B21-4FF7-A4DC-C6C41D86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090280-F3C3-4573-8B03-56D2F557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74E494-5CA7-4769-B48E-334B13D5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F4EA-C74E-4D4B-9073-EC77320C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7315-969B-4594-86AD-CA8BC70C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003E-771C-40CF-9E65-940EFAB1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850-9DEA-44B4-B28E-30591615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6E2D-21DF-45CE-BAB2-1064D4DE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1230-804B-4368-996A-82AA5F94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1664-5267-4C9A-BD86-66992B49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3BDD-8A1C-470B-9349-FAFB4C31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1F9C-AA5F-4AF6-BA6B-8F59DF86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79753-4FA8-429F-ADA7-A6C971E2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0895E-BC84-422A-96C6-E68CD906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B4730-225C-4EE5-B94A-3E8567E4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E93AE-3E56-4CE3-ADDB-5942D606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9B553-ECFD-4208-8A0F-AAAE16EE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5ED-2690-4058-8C71-E32D18E9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155AD-9036-4514-9C61-8207D434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A2750-8308-4DFE-B702-C4CA762E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3AA17-8368-449C-9FB3-79E08CD0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84A01-8518-4C04-8868-D93EE958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806DE-3AC1-4E2F-9975-65C07246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B3B1D-AF46-4209-A3BE-161B918C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F9EE9-F8EB-4CC9-BAC9-CE5B4824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7FB3D-5ED7-4BA5-949D-DED670F4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27AA9-B6EF-4E86-A1FC-683F526C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22B03-AA92-49AA-A31D-4A6E54E7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07AC-DE1E-446E-AD39-99C526FF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1AD42-FA14-427A-82EB-28AE41BB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D2A12-7688-4FCB-A696-EAFE025C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A7B98-E702-429E-93C2-7B84CF68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01FF7-778C-4F10-94C3-C7181ADE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4DA6C-C821-4F7F-B5EA-054C06E4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69CDD-E147-421D-8154-4EB45CDD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957D0-6B64-4711-9A3E-AFD15753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75850-E02C-4F76-B673-D92BDE15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E0095-6DCB-4D35-B600-E020FCDA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7588A-A92F-4C8B-8D70-C1688458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17D-1C98-4B73-9827-2BAC1AA2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F9281-F192-4984-9F25-D9F09206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432FF-B80F-44F2-A4D5-FD66CB61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45C4F-44FF-4B7C-8F86-61FC12F5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EE622-71EE-46BA-97D0-986F97BF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CBDF6-F6DF-4EB7-B6AF-7091FA38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24ED7-DB2C-40E2-A6A3-90854151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72FDC-8AF0-4465-A486-A602DB4F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88B83-6B5E-4A8A-8991-AE371E5A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71537-6204-4CFB-BF04-7F30ADE4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5631C-675D-4977-A916-496F6296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47FD-E0E4-4650-BBAA-9B0A62CB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4A1D5-2252-4CB7-B7DF-68D8E5CB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09B00-6351-41A6-8AFF-EB8C100A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1C297-5BE6-4413-816C-B83101A8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CE453-3434-457A-980D-42249585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D041B-C6BD-428D-9B1E-5A589BE4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BF6AB-4038-498F-B2EF-865D6774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93344-385C-46DA-9DDB-46DCF8A2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7B82B-2378-42E9-AAB5-C644C44D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76410-DC48-45D0-B7F1-875F9839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62E2B-EE46-4DD1-AD44-9B2DDF13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9BB7-6E3B-4388-9F93-BEEDDD2D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3B4F6-7CD7-4F97-8C71-8373CB85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33BAE-5D86-44B6-B83B-E3ECB4C6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CA424-702C-4408-97A6-D6C2829D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96C60-B42E-40B9-8C38-729FFC82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8274C-637E-4882-BB10-632E694F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ACC07-50CD-47E6-AE34-66D121F0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FF73F-691E-4114-AA30-58E064C8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B729D-4086-445D-A4D5-085D0E2D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BB77D-AF5F-4F52-AC74-B1B9C1CD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ED4E1-25EB-47B5-8588-B5FA102F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C78-B70A-4AE6-B2B9-0149B359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A8F26-E397-4A55-925C-00450341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38C20-C38B-49D6-90F1-6436D2A3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6A265-BFD8-4641-A6A5-D2E4983D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F5AD1-3C69-4B78-8278-689DD7DE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6E3C4-846D-498C-BD05-3FFB4F09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1F43F-B71B-44B8-A6B2-0D32746D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F945F-8924-40CB-8EEE-302B8B35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C9BF6-290E-49A9-A61A-7C95EF26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F0AEA-F8A9-47FF-A2E6-7C3A0209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BA665-3401-4C5B-A371-C63AE668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BA19-44DB-46FF-B04D-AA89D8B1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0F224-D7DB-4BC6-8F71-3931EB05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E9576-D107-48CE-B5F7-D8F06046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CA48F-3662-4F17-ADBF-03E80E6E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4FA4F-4EED-465D-9A11-5C6F0BBE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F916D-DAAA-41FE-AFFC-B3E9247C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60FC5-4766-4F65-BAEF-0BC5BF3C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C107B-94FB-4C87-B7A1-85A1558A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3A4A8-8EF2-486F-A6EF-EEE371BD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0DAAA-D5D4-447E-910D-DE165BBA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2CF9A-B823-46AE-B9B2-5739238D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7F62-63D0-4985-A650-7113AE10E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EF41-64C8-476E-90F0-3A18791578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4D18-F360-4709-9F55-8D88922D52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2124-022A-4548-8C64-995C2386C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6AD7-1E08-4458-8AB1-51CD5318F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845F-C9B7-4185-B776-866C1DF49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4FD9-967C-4A4D-9575-305033AFB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DB07-5219-4620-9955-229AD788DF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4005-019F-4E9C-83CE-C0C4FF5610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65E8-18BE-4536-869F-4E2DD4DD27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77A5-767B-4FB8-8829-841E0D2AB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61DE-068D-4114-AD27-C607AC5F38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EEC1-C94E-4D0F-8195-2970938221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A35B-A293-4940-B3EC-D7B5CA5BD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images.google.com/imgres?imgurl=http://www.cobbfire.org/CPR3.jpg&amp;imgrefurl=http://www.cobbfire.org/emt.htm&amp;h=276&amp;w=202&amp;sz=13&amp;tbnid=Bzcn36rL710J:&amp;tbnh=107&amp;tbnw=79&amp;start=63&amp;prev=/images%3Fq%3Dheimlich%2Bmaneuver%26start%3D60%26hl%3Den%26lr%3D%26safe%3Doff%26sa%3DN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bs.org/wgbh/nova/heart/troubled.html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2c11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FINITION OF CP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ardio</a:t>
            </a: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ulmonary </a:t>
            </a: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esuci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99c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oronary Heart Dise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the blood supply to a part of the heart is blocked; that part of the heart not receiving oxygen begins to d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espiratory Arre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breathing st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ardiac Arre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the heart has sto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trok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the blood supply to a part of the brain is blocked; those brain cells not receiving oxygen begin to d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nical Dea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means the heart and breathing have stop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Heart att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A sudden severe instance of abnormal heart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finitions Continue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rain Dea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Occurs 4-6 minutes after clinical death when the cells of the brain begin to d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ological death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ll systems cease to function. Organ systems have shut down and are no longer work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7" descr="SO02914_[1]"/>
          <p:cNvPicPr/>
          <p:nvPr/>
        </p:nvPicPr>
        <p:blipFill>
          <a:blip r:embed="rId1"/>
          <a:stretch/>
        </p:blipFill>
        <p:spPr>
          <a:xfrm>
            <a:off x="3962520" y="4952880"/>
            <a:ext cx="1422360" cy="16574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1" descr="SO02914_[1]"/>
          <p:cNvPicPr/>
          <p:nvPr/>
        </p:nvPicPr>
        <p:blipFill>
          <a:blip r:embed="rId2"/>
          <a:stretch/>
        </p:blipFill>
        <p:spPr>
          <a:xfrm>
            <a:off x="1676520" y="4876920"/>
            <a:ext cx="1422360" cy="165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ahoma"/>
              </a:rPr>
              <a:t>General CPR; In Three Simple Steps: AB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838080" y="220932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1.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rway – head tilt, chin li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athing – look, listen, f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rculation – give chest compress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6" descr=""/>
          <p:cNvPicPr/>
          <p:nvPr/>
        </p:nvPicPr>
        <p:blipFill>
          <a:blip r:embed="rId1"/>
          <a:stretch/>
        </p:blipFill>
        <p:spPr>
          <a:xfrm>
            <a:off x="6553080" y="4419720"/>
            <a:ext cx="2210040" cy="1971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7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2209680" cy="1971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75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75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475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098f"/>
                                </p:to>
                              </p:animCl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175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098f"/>
                                </p:to>
                              </p:animCl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875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3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3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098f"/>
                                </p:to>
                              </p:animCl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275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098f"/>
                                </p:to>
                              </p:animCl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775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Adult; over 8 years old; CP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heck for unresponsiveness and call for hel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.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heck the Victim for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unresponsiveness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. Gently shake them and ask “Are you all right, are you okay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B. If the victim doesn’t respond SEND SOMEONE TO GET HELP.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Call 911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nd return to the victim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4" descr=""/>
          <p:cNvPicPr/>
          <p:nvPr/>
        </p:nvPicPr>
        <p:blipFill>
          <a:blip r:embed="rId1"/>
          <a:stretch/>
        </p:blipFill>
        <p:spPr>
          <a:xfrm>
            <a:off x="4495680" y="4267080"/>
            <a:ext cx="3733920" cy="259092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p:transition spd="med">
    <p:strips dir="l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500"/>
                            </p:stCondLst>
                            <p:childTnLst>
                              <p:par>
                                <p:cTn id="32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dult CPR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irway and brea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71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.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Use the head tilt, chin lift method to open airway. Look,  listen and feel for breathing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. If the victim is not breathing normally, pinch the nose and cover their mouth with yours. Give 2 full breaths until you see the chest rise. Each breath should last about 1 second.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. With each breath the chest should lower and rise so you know that air is getting in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5" descr="blowani"/>
          <p:cNvPicPr/>
          <p:nvPr/>
        </p:nvPicPr>
        <p:blipFill>
          <a:blip r:embed="rId1"/>
          <a:stretch/>
        </p:blipFill>
        <p:spPr>
          <a:xfrm>
            <a:off x="5791320" y="2286000"/>
            <a:ext cx="3124080" cy="3100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Adult CPR </a:t>
            </a:r>
            <a:br>
              <a:rPr sz="4000"/>
            </a:br>
            <a:r>
              <a:rPr b="1" lang="en-US" sz="4000" spc="-1" strike="noStrike">
                <a:solidFill>
                  <a:srgbClr val="ff99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. After giving two breaths, immediately begin chest compress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. Use the nipple line (“armpit over”) to determine the proper place to do chest compress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. Push down on the chest 1 1/2 to 2 inches, 30 times right between the nipples where the heart lies. (ratio 30: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. Pump at the rate of 100 compressions / 1 minu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. If you see chest movement, put the victim in the side position in case they vom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5" descr="handposition.gif (3169 bytes)"/>
          <p:cNvPicPr/>
          <p:nvPr/>
        </p:nvPicPr>
        <p:blipFill>
          <a:blip r:embed="rId1"/>
          <a:stretch/>
        </p:blipFill>
        <p:spPr>
          <a:xfrm>
            <a:off x="6705720" y="22860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7" descr="pumpani"/>
          <p:cNvPicPr/>
          <p:nvPr/>
        </p:nvPicPr>
        <p:blipFill>
          <a:blip r:embed="rId2"/>
          <a:stretch/>
        </p:blipFill>
        <p:spPr>
          <a:xfrm>
            <a:off x="6705720" y="4572000"/>
            <a:ext cx="207792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cpr-handplacement"/>
          <p:cNvPicPr/>
          <p:nvPr/>
        </p:nvPicPr>
        <p:blipFill>
          <a:blip r:embed="rId1"/>
          <a:srcRect l="0" t="0" r="0" b="35736"/>
          <a:stretch/>
        </p:blipFill>
        <p:spPr>
          <a:xfrm>
            <a:off x="0" y="7621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3"/>
          <p:cNvSpPr/>
          <p:nvPr/>
        </p:nvSpPr>
        <p:spPr>
          <a:xfrm>
            <a:off x="457200" y="6053040"/>
            <a:ext cx="89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hest compressions should be performed on th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low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½ of the sternum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cpr-handplacement"/>
          <p:cNvPicPr/>
          <p:nvPr/>
        </p:nvPicPr>
        <p:blipFill>
          <a:blip r:embed="rId1"/>
          <a:srcRect l="0" t="66605" r="0" b="0"/>
          <a:stretch/>
        </p:blipFill>
        <p:spPr>
          <a:xfrm>
            <a:off x="0" y="91440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3"/>
          <p:cNvSpPr/>
          <p:nvPr/>
        </p:nvSpPr>
        <p:spPr>
          <a:xfrm>
            <a:off x="1066680" y="4686480"/>
            <a:ext cx="796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or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ach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ompression it is important to push dow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ar enough and to be sure the chest is completel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released after each compression. This will allow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he heart to fill with blood after each compr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3962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Eras Bold ITC"/>
              </a:rPr>
              <a:t>Recover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Eras Bold ITC"/>
              </a:rPr>
              <a:t>Pos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3" descr="recovery-position"/>
          <p:cNvPicPr/>
          <p:nvPr/>
        </p:nvPicPr>
        <p:blipFill>
          <a:blip r:embed="rId1"/>
          <a:stretch/>
        </p:blipFill>
        <p:spPr>
          <a:xfrm>
            <a:off x="4800600" y="0"/>
            <a:ext cx="432756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29" name="Text Box 4"/>
          <p:cNvSpPr/>
          <p:nvPr/>
        </p:nvSpPr>
        <p:spPr>
          <a:xfrm>
            <a:off x="228600" y="1600200"/>
            <a:ext cx="426708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What is t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Recovery Position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Aid procedure to use if the person is unconscious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athing and have a pulse.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a safe position to put them in while you are waiting for the EMS to arri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them to breathe easily and prevents them from choking on their tongue or any vomi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PR: Childr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2c11cf"/>
                </a:solidFill>
                <a:latin typeface="Tahoma"/>
              </a:rPr>
              <a:t>1 to 8 years of ag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eck for unresponsive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If you are alone with the child give 4-5 cycles of 30 compressions before calling 91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Open the air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 Check for breathing: look, listen,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. Not breathing: give 2 bre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. Perform chest compressions on the nipple line in the center of the che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. If the child is small, use one hand for compressions. </a:t>
            </a:r>
            <a:r>
              <a:rPr b="1" lang="en-US" sz="2400" spc="-1" strike="noStrike">
                <a:solidFill>
                  <a:srgbClr val="2d2db9"/>
                </a:solidFill>
                <a:latin typeface="Tahoma"/>
              </a:rPr>
              <a:t>If the child is larger, use 2 hand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. Press the sternum down 1” to 1 ½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Give 30 compressions to 2 breaths (ratio of 30:2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. Pump at the rate of 100 compressions per 1 min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. You should perform 5 cycles of 30 compressions in 2 minu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Heart disea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Heart disease is the number one killer in the United States today, and over 60% of all victims will die before they reach the hospital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heart lies between the sternum and the spi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ahoma"/>
              </a:rPr>
              <a:t>CPR: Infant; 0 to 1 year check for unresponsiveness; call for hel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.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heck for unresponsiveness: tickle, touch, pinch the infant gent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B. If there is no response, perform 5 cycles of 30 compressions before calling 91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Picture 5" descr="Step 1"/>
          <p:cNvPicPr/>
          <p:nvPr/>
        </p:nvPicPr>
        <p:blipFill>
          <a:blip r:embed="rId1"/>
          <a:stretch/>
        </p:blipFill>
        <p:spPr>
          <a:xfrm>
            <a:off x="5029200" y="2568600"/>
            <a:ext cx="3581280" cy="2230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PR: Infant; open airwa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= Open The Airw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. Tilt the head back gently, only far enough so that the infant’s mouth is facing the ceiling.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o not tilt the head too far back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!  This may injure the neck, and collapse the airwa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5" descr="Step 2"/>
          <p:cNvPicPr/>
          <p:nvPr/>
        </p:nvPicPr>
        <p:blipFill>
          <a:blip r:embed="rId1"/>
          <a:stretch/>
        </p:blipFill>
        <p:spPr>
          <a:xfrm>
            <a:off x="5181480" y="4444920"/>
            <a:ext cx="2895840" cy="2413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PR: INFANT; check breat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 = breathing: Look, listen, and feel for ai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. If the infant is NOT breathing give 2 small gentle “puffs” of ai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. Cover both the baby's mouth AND nose with your mou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. You should see the baby's chest rise with each brea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Step 3"/>
          <p:cNvPicPr/>
          <p:nvPr/>
        </p:nvPicPr>
        <p:blipFill>
          <a:blip r:embed="rId1"/>
          <a:stretch/>
        </p:blipFill>
        <p:spPr>
          <a:xfrm>
            <a:off x="5867280" y="441972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2c11c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PR: Infants; check circul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6019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he proper placement for chest compressions is just below the nipple l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. Position your 3rd and 4th fingers in the center of the chest ½ inch below the nipp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. Press down ½” to 1”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. Perform 30 chest compressions at a ratio of 30:2 (30 compressions for every 2 breath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. At least 100 compressions should be given within 1 minut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Picture 5" descr="infant5"/>
          <p:cNvPicPr/>
          <p:nvPr/>
        </p:nvPicPr>
        <p:blipFill>
          <a:blip r:embed="rId1"/>
          <a:stretch/>
        </p:blipFill>
        <p:spPr>
          <a:xfrm>
            <a:off x="6095880" y="1600200"/>
            <a:ext cx="304812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11c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PR: Inf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f the infant recovers, put them in the recovery position by gently supporting  the neck and picking them u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Picture 5" descr="infant6"/>
          <p:cNvPicPr/>
          <p:nvPr/>
        </p:nvPicPr>
        <p:blipFill>
          <a:blip r:embed="rId1"/>
          <a:stretch/>
        </p:blipFill>
        <p:spPr>
          <a:xfrm>
            <a:off x="3809880" y="419112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Under what special circumstances can a non-physician discontinue CP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victim resp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rescuer collap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doctor pronounces the victim d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meone with equal or more training takes o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th a child/infant – stop after 1 minute to call 911 if you alone, and no one will be co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Obstructed airway (choking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2c11c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11cf"/>
                </a:solidFill>
                <a:latin typeface="Tahoma"/>
              </a:rPr>
              <a:t>Partially obstructed airway with good air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 victim can make some sounds; may be able to speak and c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artially obstructed airway with poor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victim cannot speak, may be wheezing or coughing weak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ully obstructed airwa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victim cannot make any sou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most common cause of an airway obstruction in a conscious person is </a:t>
            </a:r>
            <a:r>
              <a:rPr b="1" lang="en-US" sz="2400" spc="-1" strike="noStrike">
                <a:solidFill>
                  <a:srgbClr val="2c11cf"/>
                </a:solidFill>
                <a:latin typeface="Tahoma"/>
              </a:rPr>
              <a:t>food or a foreign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most common cause of an airway obstruction in an unconscious person is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he tong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dult choking; conscio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he Heimlich maneuv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Ask the victim: : “Are you choking?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If the victim nods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y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ask them “Would you like my help?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f they say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“NO”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o not help them.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If they say yes, you may help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Position yourself by placing one of your legs between the legs of your victim. Give 5  abdominal thrusts and continue as nee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a pregnant or obese person, perform chest thru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 Repeat thrusts until the object is expelled and the obstruction is relieved OR the victim becomes unresponsive/unconsci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5" descr="1098"/>
          <p:cNvPicPr/>
          <p:nvPr/>
        </p:nvPicPr>
        <p:blipFill>
          <a:blip r:embed="rId1"/>
          <a:stretch/>
        </p:blipFill>
        <p:spPr>
          <a:xfrm>
            <a:off x="0" y="121932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7" descr="CPR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219320"/>
            <a:ext cx="3047760" cy="449568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9"/>
          <p:cNvSpPr/>
          <p:nvPr/>
        </p:nvSpPr>
        <p:spPr>
          <a:xfrm>
            <a:off x="2261160" y="33804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ONSCIOUS ADULT CHOK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dult choking; unconsciou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240" y="5335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. Call 91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. Open the air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. Perform a finger sweep to remove possible foreign object in mou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. Open the airway and try to get air in. Give 2 breaths. If air does not go in,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reposition the head and give 2 more breaths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f air still does not go in, the airway is obstru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. With the victim lying on the floor, give 5 abdominal thrusts while straddling your victi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. Repeat the steps until victim is no longer choking or continue the steps of CPR as need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-3049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What are the functions of CP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A.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s basic life suppor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– to maintain a viable (living) victim for advanced life support.  (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S stands for Emergency Medical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.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o minimize the occurrence of panic during times of emergenc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.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For early diagnosis and detection of the symptoms of heart att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Be able to recognize the signs of a heart attack. 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 greatest risk of death from heart attack is in the initial two hours after the onset of the symp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0% of all victims die before they reach the hospital.  (paramedics now stabilize the victim at the site before transporting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5" descr="img31"/>
          <p:cNvPicPr/>
          <p:nvPr/>
        </p:nvPicPr>
        <p:blipFill>
          <a:blip r:embed="rId1"/>
          <a:stretch/>
        </p:blipFill>
        <p:spPr>
          <a:xfrm>
            <a:off x="152280" y="167652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7" descr="hughes1"/>
          <p:cNvPicPr/>
          <p:nvPr/>
        </p:nvPicPr>
        <p:blipFill>
          <a:blip r:embed="rId2"/>
          <a:stretch/>
        </p:blipFill>
        <p:spPr>
          <a:xfrm>
            <a:off x="5410080" y="16765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8"/>
          <p:cNvSpPr/>
          <p:nvPr/>
        </p:nvSpPr>
        <p:spPr>
          <a:xfrm>
            <a:off x="1870920" y="566640"/>
            <a:ext cx="50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ULT UNCONSCIOUS CHOK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9"/>
          <p:cNvSpPr/>
          <p:nvPr/>
        </p:nvSpPr>
        <p:spPr>
          <a:xfrm>
            <a:off x="380880" y="4465800"/>
            <a:ext cx="918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You would straddle the victim whi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erforming any needed CPR and abdominal chest thrust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o not push down on the Xiphoid process!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fant choking; consci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Check for breathing difficulty, ineffective cough, weak c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Confirm signs of severe or complete airway obstr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. Give 5 back blows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th your open hand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and 5 chest thrusts, </a:t>
            </a:r>
            <a:r>
              <a:rPr b="1" lang="en-US" sz="2400" spc="-1" strike="noStrike">
                <a:solidFill>
                  <a:srgbClr val="070321"/>
                </a:solidFill>
                <a:latin typeface="Tahoma"/>
              </a:rPr>
              <a:t>using your 3rd and 4th fing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. Repeat back blows and chest thrusts until object is expelled OR the victim becomes unrespo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17"/>
          <p:cNvSpPr/>
          <p:nvPr/>
        </p:nvSpPr>
        <p:spPr>
          <a:xfrm>
            <a:off x="3809880" y="2857680"/>
            <a:ext cx="152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Picture 23" descr="Choking01"/>
          <p:cNvPicPr/>
          <p:nvPr/>
        </p:nvPicPr>
        <p:blipFill>
          <a:blip r:embed="rId1"/>
          <a:stretch/>
        </p:blipFill>
        <p:spPr>
          <a:xfrm>
            <a:off x="5105520" y="175248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5" descr="Choking03"/>
          <p:cNvPicPr/>
          <p:nvPr/>
        </p:nvPicPr>
        <p:blipFill>
          <a:blip r:embed="rId2"/>
          <a:stretch/>
        </p:blipFill>
        <p:spPr>
          <a:xfrm>
            <a:off x="380880" y="380988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9" descr="h5550949"/>
          <p:cNvPicPr/>
          <p:nvPr/>
        </p:nvPicPr>
        <p:blipFill>
          <a:blip r:embed="rId3"/>
          <a:stretch/>
        </p:blipFill>
        <p:spPr>
          <a:xfrm>
            <a:off x="609480" y="60948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30"/>
          <p:cNvSpPr/>
          <p:nvPr/>
        </p:nvSpPr>
        <p:spPr>
          <a:xfrm>
            <a:off x="914400" y="0"/>
            <a:ext cx="24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ACK SLAP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32"/>
          <p:cNvSpPr/>
          <p:nvPr/>
        </p:nvSpPr>
        <p:spPr>
          <a:xfrm>
            <a:off x="674280" y="3314880"/>
            <a:ext cx="27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EST THRUS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33"/>
          <p:cNvSpPr/>
          <p:nvPr/>
        </p:nvSpPr>
        <p:spPr>
          <a:xfrm>
            <a:off x="5854680" y="110484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NGER SWEE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Infant choking; unconscio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91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Call 9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Open the airway and if you see the object, remove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Try to give 2 breaths. If the chest does not rise, re-open the airway and try to give 2 more bre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321"/>
                </a:solidFill>
                <a:latin typeface="Tahoma"/>
              </a:rPr>
              <a:t>D. If the air still does not go in they are choking. Give 5 back blows, 5 chest thrusts and 2 breaths. Re-open airway and give 2 more breat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321"/>
                </a:solidFill>
                <a:latin typeface="Tahoma"/>
              </a:rPr>
              <a:t>E. Repeat above steps until breathing is effective. Perform CPR if need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0321"/>
                </a:solidFill>
                <a:latin typeface="Tahoma"/>
              </a:rPr>
              <a:t>F. If the rescuer is alone and the airway obstruction is not relieved after 1 minute, call 91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5" descr="18154"/>
          <p:cNvPicPr/>
          <p:nvPr/>
        </p:nvPicPr>
        <p:blipFill>
          <a:blip r:embed="rId1"/>
          <a:stretch/>
        </p:blipFill>
        <p:spPr>
          <a:xfrm>
            <a:off x="1600200" y="1981080"/>
            <a:ext cx="5257800" cy="396252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6"/>
          <p:cNvSpPr/>
          <p:nvPr/>
        </p:nvSpPr>
        <p:spPr>
          <a:xfrm>
            <a:off x="609480" y="274680"/>
            <a:ext cx="80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reat a conscious or unconscious child (1-8 years old) with an airway obstruction like a conscious or unconscious adult with an airway obstruction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1219320" y="629460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xample of a conscious choking chil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performing CPR, the victim must be placed on a firm, flat surface, in the “head-tilt, chin-lift”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niversal sign for choking is two hands placed at the thr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you give a victim 2 full breaths and they don’t seem to go in, you should re-tilt the head (head tilt, chin lift) and try again. If the air still does not go in your victim may be choking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n a two person rescue situation,  rescuers should rotate between compressions and breathing every 2 minutes to avoid fatigu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deally, the rescuers should switch positions within 5 seconds so the victim is not left unattended for too lo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Bold ITC"/>
              </a:rPr>
              <a:t>Good Samaritan La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that protects rescuers from prosecution or civil law suits, unless their actions constitute willful misconduct and neglig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scu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ly with proper emergency first aid and CPR guidelines;  acting in good faith by being prudent and responsible in their rescue eff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4" descr="RHB%20Web%20Good%20Samaritan%20Light%20Blue"/>
          <p:cNvPicPr/>
          <p:nvPr/>
        </p:nvPicPr>
        <p:blipFill>
          <a:blip r:embed="rId1"/>
          <a:stretch/>
        </p:blipFill>
        <p:spPr>
          <a:xfrm>
            <a:off x="5943600" y="380880"/>
            <a:ext cx="2819520" cy="990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5" descr="beating_heart"/>
          <p:cNvPicPr/>
          <p:nvPr/>
        </p:nvPicPr>
        <p:blipFill>
          <a:blip r:embed="rId2"/>
          <a:stretch/>
        </p:blipFill>
        <p:spPr>
          <a:xfrm>
            <a:off x="3276720" y="4724280"/>
            <a:ext cx="2857320" cy="16671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6" descr="beat6"/>
          <p:cNvPicPr/>
          <p:nvPr/>
        </p:nvPicPr>
        <p:blipFill>
          <a:blip r:embed="rId3"/>
          <a:stretch/>
        </p:blipFill>
        <p:spPr>
          <a:xfrm>
            <a:off x="6858000" y="4648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cpic2_e0"/>
          <p:cNvPicPr/>
          <p:nvPr/>
        </p:nvPicPr>
        <p:blipFill>
          <a:blip r:embed="rId4"/>
          <a:stretch/>
        </p:blipFill>
        <p:spPr>
          <a:xfrm>
            <a:off x="685800" y="4724280"/>
            <a:ext cx="2057400" cy="1644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does CPR stand for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 = Cardio (hear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 = Pulmonary (lung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 = Resuscitation (recov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152280" y="5181480"/>
            <a:ext cx="980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xyge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s the basic requirement for breathing and ever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ving cell in the bod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function of the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epiglotti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s to guard the entrance 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ch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3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3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3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What types of situations might cause a victim to need CP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365760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eart at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lectro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ug overd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ci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ab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495320" y="2096640"/>
            <a:ext cx="396252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is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moke Inha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pilep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ff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ow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ras Bold ITC"/>
              </a:rPr>
              <a:t>Emergency Situations Requiring CPR and Emergency First A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cohol Overdose - Alcohol Poi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ug or Medicine Over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king – Airway Ob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o Ac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al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n S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bbing/Knife W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oke Inha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ow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 Exhau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 Exposur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d Temper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4" descr="heart"/>
          <p:cNvPicPr/>
          <p:nvPr/>
        </p:nvPicPr>
        <p:blipFill>
          <a:blip r:embed="rId1"/>
          <a:stretch/>
        </p:blipFill>
        <p:spPr>
          <a:xfrm>
            <a:off x="4495680" y="3581280"/>
            <a:ext cx="4191120" cy="2700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What are the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real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symptoms of a heart attac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comfortable pressure and squeezing, usually located in the center of the ch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in may spread to shoulders, arms, neck, and back (usually on the left s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pain is not always severe and may come and go (sharp, stabbing twinges of pain usually are not signals of heart att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weating, nausea, shortness of breath, feeling of wea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y occur in either sex, even young adults, and not necessarily during physical or emotional st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How does the heart work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igh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side of the heart receives deoxygenated blood from the body which it then pump to the lungs (through the pulmonary artery) where carbon dioxide is exchanged for oxy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2c11cf"/>
                </a:solidFill>
                <a:latin typeface="Tahoma"/>
              </a:rPr>
              <a:t>lef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side of the heart receives the oxygenated blood from the lungs (through the pulmonary vein) which it then pumps through the atrium to the ventricle; from the ventricle the blood is pumped through the aorta to the rest of the bod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ow to help a heart attack victim that is consciou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elp the victim into a comfortable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ting if he or she is short of bre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ying down if he or she is light he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Loosen clothing around neck and wais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all an ambulance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Call 911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2438280" y="5805360"/>
            <a:ext cx="579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www.pbs.org/wgbh/nova/heart/troubled.htm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18:00:08Z</dcterms:created>
  <dc:creator>Ed Tech Dept</dc:creator>
  <dc:description/>
  <dc:language>en-US</dc:language>
  <cp:lastModifiedBy>THS District 211</cp:lastModifiedBy>
  <dcterms:modified xsi:type="dcterms:W3CDTF">2010-02-05T20:34:21Z</dcterms:modified>
  <cp:revision>144</cp:revision>
  <dc:subject/>
  <dc:title>CPR In Three Simple Steps</dc:title>
</cp:coreProperties>
</file>